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82C-1585-4C63-8079-78968F01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0273-03AF-4029-92EE-9C61158E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FC7-815C-4BB1-B687-C44DE516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422E-76EE-43A7-B517-7A90A0F4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75A5-D031-4711-8B3E-3209CF9C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4386-B1D6-4E10-AD5F-A565629A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89F2-6777-4A4A-94B0-149122B2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AE00-3A1A-44E7-A91B-76E93EE1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1014-2CE7-4666-B2BF-E6880F18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BE95-D5D1-4263-A0D5-2F834643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7177-B643-43A9-970F-2BDAE861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FD3-B90C-4DF6-A940-5D046183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F9D4-3A14-42A2-AF81-31E36F67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7951-BE00-4F16-9D33-5E334D20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5950-9A52-4263-B2FE-A81849B5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E83C-B7AC-48AC-BB4D-DD0A05ED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DA16-36E4-4C4F-8AAC-C58A761C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0987-743E-4125-865F-D49094B1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64F-8DA9-463E-9CBD-EC83172A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A6E-4CB7-4060-91F4-18898200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11B8-3C4D-4CB6-86BB-FADE8BE2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D39-8170-4570-98E1-74872C5F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DF6-398E-4035-A13B-8E8EA8EA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22DE-9225-4910-A8F4-FE7123B0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ECA6-55BC-45D8-AB1A-AE45DABED6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C864-EB34-4901-AB41-B1AC297EF8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лектронные  конфигурации атом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нтовые  чис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ы  заполнения   орбиталей  электрон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ные семей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ал электро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оение  электронных  оболочек атом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24000" y="333360"/>
            <a:ext cx="8569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уровень      1 А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-подуровень      3 АО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уровень      5 А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уровень       7 А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ТАК, им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2s2p3s3p3d4s4p4d4f5s5p5d5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s6p6d6f…7s7p7d7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651640" y="404640"/>
            <a:ext cx="504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651640" y="1268280"/>
            <a:ext cx="504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156360" y="1268280"/>
            <a:ext cx="504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6659640" y="1268280"/>
            <a:ext cx="504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5651640" y="2060640"/>
            <a:ext cx="504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6156360" y="2060640"/>
            <a:ext cx="504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6659640" y="2060640"/>
            <a:ext cx="504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7164360" y="2060640"/>
            <a:ext cx="504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7667640" y="2060640"/>
            <a:ext cx="504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5651640" y="2852640"/>
            <a:ext cx="504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6156360" y="2852640"/>
            <a:ext cx="504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6659640" y="2852640"/>
            <a:ext cx="504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7164360" y="2852640"/>
            <a:ext cx="504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7667640" y="2852640"/>
            <a:ext cx="504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8172360" y="2852640"/>
            <a:ext cx="50508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8639280" y="2852640"/>
            <a:ext cx="504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вантовые чис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гнитное   квантовое чис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яет ориентацию  орбитали  в  пространст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каждой формы орбитали существу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2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l + 1) энергетически равноценных ориентации в простран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0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0, орбиталь одн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1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-1, О,+1, три орбит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ует отметить, что все орбитали располагаются симметрично в пространств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500040" y="3357720"/>
            <a:ext cx="83581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вантовые чис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иновое квантовое чис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изует  вращение  электрона  вокруг  собственной  о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;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/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↑       ;       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нципы заполнения электронных оболоче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нцип минимальной энер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нцип Пау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ило Ху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ило Клечковск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Pauli"/>
          <p:cNvPicPr/>
          <p:nvPr/>
        </p:nvPicPr>
        <p:blipFill>
          <a:blip r:embed="rId1"/>
          <a:stretch/>
        </p:blipFill>
        <p:spPr>
          <a:xfrm>
            <a:off x="1403280" y="4365720"/>
            <a:ext cx="1333440" cy="1885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200px-Hund,Friedrich_1920er_Göttingen"/>
          <p:cNvPicPr/>
          <p:nvPr/>
        </p:nvPicPr>
        <p:blipFill>
          <a:blip r:embed="rId2"/>
          <a:stretch/>
        </p:blipFill>
        <p:spPr>
          <a:xfrm>
            <a:off x="4067280" y="4365720"/>
            <a:ext cx="1314360" cy="1873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клечковский"/>
          <p:cNvPicPr/>
          <p:nvPr/>
        </p:nvPicPr>
        <p:blipFill>
          <a:blip r:embed="rId3"/>
          <a:stretch/>
        </p:blipFill>
        <p:spPr>
          <a:xfrm>
            <a:off x="6732720" y="4365720"/>
            <a:ext cx="137448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79280" y="189000"/>
            <a:ext cx="8498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инцип  минимальной энергии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лектрон занимает тот  энергетический уровень, тот подуровень   или  ту АО, которым соответствует  минимальный  запас  энерг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357120" y="3571920"/>
            <a:ext cx="8143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ЯД НАИМЕНЬШЕЙ ЭНЕРГ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s 2s2p 3s3p 4s3d4p 5s4d5p 6s4f5d6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s5f6d7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50920" y="476280"/>
            <a:ext cx="864216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инцип  Паули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атоме  не  может  быть  двух  электронов , у  которых все  четыре  квантовых  числа  охарактеризованы  одинаковыми  знач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одной АО  могут находиться  не  более 2-х электронов , охарактеризованных   различными  значениями   спинового  квантового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000240" y="450072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14200" y="4071960"/>
            <a:ext cx="8001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357120" y="2571840"/>
            <a:ext cx="7715160" cy="32954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4"/>
          <p:cNvSpPr/>
          <p:nvPr/>
        </p:nvSpPr>
        <p:spPr>
          <a:xfrm>
            <a:off x="642960" y="357120"/>
            <a:ext cx="792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авило  Хун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 распределении  электронов в  подуровнях следует  помнить , что   суммарный   спин   был  максим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611280" y="47628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лектроны  сначала  располагаются  по  одному занимают все АО , а  потом  спариваются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2484360" y="4149720"/>
            <a:ext cx="50328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492360" y="4149720"/>
            <a:ext cx="50328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987640" y="4149720"/>
            <a:ext cx="50328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5435640" y="4149720"/>
            <a:ext cx="50328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↑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6443640" y="4149720"/>
            <a:ext cx="50328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5940360" y="4149720"/>
            <a:ext cx="50328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↑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435640" y="5516640"/>
            <a:ext cx="50328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↑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6443640" y="5516640"/>
            <a:ext cx="50328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5938920" y="5516640"/>
            <a:ext cx="50328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2411280" y="5445000"/>
            <a:ext cx="50328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3419640" y="5445000"/>
            <a:ext cx="5029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2914560" y="5445000"/>
            <a:ext cx="50328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↓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"/>
          <p:cNvSpPr/>
          <p:nvPr/>
        </p:nvSpPr>
        <p:spPr>
          <a:xfrm>
            <a:off x="2484360" y="5084640"/>
            <a:ext cx="144000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1"/>
          <p:cNvSpPr/>
          <p:nvPr/>
        </p:nvSpPr>
        <p:spPr>
          <a:xfrm flipH="1">
            <a:off x="2484000" y="5084640"/>
            <a:ext cx="136692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>
            <a:off x="5435640" y="5084640"/>
            <a:ext cx="14414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 flipH="1">
            <a:off x="5435640" y="5084640"/>
            <a:ext cx="14414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285840" y="571680"/>
            <a:ext cx="8072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авило  Клечковск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начале  записывается  та АО , тот подуровень  , тот  энергетический  уровень  , где  сумма  квантовых  чисел 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будет   меньш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 в  случае  равных  значений   тот  урвень  , где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 –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ньш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Diagram 5"/>
          <p:cNvGrpSpPr/>
          <p:nvPr/>
        </p:nvGrpSpPr>
        <p:grpSpPr>
          <a:xfrm>
            <a:off x="2785680" y="1231920"/>
            <a:ext cx="3905280" cy="3368520"/>
            <a:chOff x="2785680" y="1231920"/>
            <a:chExt cx="3905280" cy="3368520"/>
          </a:xfrm>
        </p:grpSpPr>
        <p:sp>
          <p:nvSpPr>
            <p:cNvPr id="85" name="_s1028"/>
            <p:cNvSpPr/>
            <p:nvPr/>
          </p:nvSpPr>
          <p:spPr>
            <a:xfrm>
              <a:off x="2785680" y="2176560"/>
              <a:ext cx="2423160" cy="2423880"/>
            </a:xfrm>
            <a:prstGeom prst="donut">
              <a:avLst>
                <a:gd name="adj" fmla="val 16666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29"/>
            <p:cNvSpPr/>
            <p:nvPr/>
          </p:nvSpPr>
          <p:spPr>
            <a:xfrm>
              <a:off x="6045480" y="2308320"/>
              <a:ext cx="64548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0"/>
            <p:cNvSpPr/>
            <p:nvPr/>
          </p:nvSpPr>
          <p:spPr>
            <a:xfrm>
              <a:off x="3188880" y="2579760"/>
              <a:ext cx="1615320" cy="1616040"/>
            </a:xfrm>
            <a:prstGeom prst="donut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1"/>
            <p:cNvSpPr/>
            <p:nvPr/>
          </p:nvSpPr>
          <p:spPr>
            <a:xfrm>
              <a:off x="6045480" y="1770120"/>
              <a:ext cx="64548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2"/>
            <p:cNvSpPr/>
            <p:nvPr/>
          </p:nvSpPr>
          <p:spPr>
            <a:xfrm>
              <a:off x="3593520" y="2984400"/>
              <a:ext cx="807480" cy="8082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33"/>
            <p:cNvSpPr/>
            <p:nvPr/>
          </p:nvSpPr>
          <p:spPr>
            <a:xfrm>
              <a:off x="6045480" y="1231920"/>
              <a:ext cx="64548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ядр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12" descr=""/>
          <p:cNvPicPr/>
          <p:nvPr/>
        </p:nvPicPr>
        <p:blipFill>
          <a:blip r:embed="rId1"/>
          <a:srcRect l="1512" t="32068" r="31980" b="31203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2"/>
          <p:cNvSpPr/>
          <p:nvPr/>
        </p:nvSpPr>
        <p:spPr>
          <a:xfrm>
            <a:off x="357120" y="928800"/>
            <a:ext cx="8112240" cy="82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Что вначале будет заполнять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3d 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 или 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4s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3d: сумма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= 3 + 2 =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: сумма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= 4 + 0 =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4&lt; 5 =&gt; вначале заполняется 4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, а затем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4р? или 3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?</a:t>
            </a:r>
            <a:br>
              <a:rPr sz="3600"/>
            </a:b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4р: сумма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l= 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4+1=5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3d: сумма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= 3 + 2 =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Значение сумм одинаково, но по принципу минимальной энергии Е при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 = 3 меньш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чем Е при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 = 4, следовательно будет</a:t>
            </a:r>
            <a:br>
              <a:rPr sz="3600"/>
            </a:b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заполняться 3d, а затем 4р.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лектронные семе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элементы, есл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олняется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одуров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элементы, есл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олняется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одуров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элементы, есл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олняется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одуров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элементы, есл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олняется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одуров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-элементы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— в главных подгруппах 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I, II 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групп;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р- элементы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— в главных подгруппах 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III—VIII 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групп;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-элементы располагаются в побочных подгруппах;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-элементы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— это два семейства — лантаноиды и актиноиды.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лектронная форму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ная формула атома химического элемента показывает как распределяются электроны в атоме, учитывая их характеистику квантовыми числ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9 Mt мейтнери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p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s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d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p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s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f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d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p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s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f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d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ал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электр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атомах некоторых элементов электр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одуровня внешнего энергетического уровня переходит на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одуровень предвнешнего энергетического уровня. Идёт выигрыш в энерг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 считается симметричным, т.е. либо большинство электронов становятся неспаренными либо спаренны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baseline="-25000">
                <a:solidFill>
                  <a:srgbClr val="000000"/>
                </a:solidFill>
                <a:latin typeface="Calibri"/>
              </a:rPr>
              <a:t>10 элементов: Си, 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Ag,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Calibri"/>
              </a:rPr>
              <a:t>Аи, Сг, </a:t>
            </a:r>
            <a:r>
              <a:rPr b="0" lang="de-DE" sz="4000" spc="-1" strike="noStrike" baseline="-25000">
                <a:solidFill>
                  <a:srgbClr val="000000"/>
                </a:solidFill>
                <a:latin typeface="Calibri"/>
              </a:rPr>
              <a:t>Md, Nb, Ru, Rh, Pd, P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Calibri"/>
              </a:rPr>
              <a:t>В атомах данных элементов происходит самопроизвольный переход одного электр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Calibri"/>
              </a:rPr>
              <a:t>(у 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Pt 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Calibri"/>
              </a:rPr>
              <a:t>— двух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Calibri"/>
              </a:rPr>
              <a:t>-подуровня внешнего энергетического уровня в 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Calibri"/>
              </a:rPr>
              <a:t>-подуровень 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Calibri"/>
              </a:rPr>
              <a:t>предвнешнего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Calibri"/>
              </a:rPr>
              <a:t>энергетического уровня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000" y="4221000"/>
            <a:ext cx="81356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ить элемен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4360" y="2924280"/>
          <a:ext cx="8161200" cy="1106280"/>
        </p:xfrm>
        <a:graphic>
          <a:graphicData uri="http://schemas.openxmlformats.org/drawingml/2006/table">
            <a:tbl>
              <a:tblPr/>
              <a:tblGrid>
                <a:gridCol w="2720880"/>
                <a:gridCol w="2719440"/>
                <a:gridCol w="2720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; 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; 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; 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23"/>
          <p:cNvSpPr/>
          <p:nvPr/>
        </p:nvSpPr>
        <p:spPr>
          <a:xfrm>
            <a:off x="684360" y="1557360"/>
            <a:ext cx="8064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электронные и электронно-графические формулы элемен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55640" y="4941720"/>
          <a:ext cx="8064360" cy="1295640"/>
        </p:xfrm>
        <a:graphic>
          <a:graphicData uri="http://schemas.openxmlformats.org/drawingml/2006/table">
            <a:tbl>
              <a:tblPr/>
              <a:tblGrid>
                <a:gridCol w="2687760"/>
                <a:gridCol w="2689200"/>
                <a:gridCol w="268740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s</a:t>
                      </a:r>
                      <a:r>
                        <a:rPr b="0" lang="en-US" sz="2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d</a:t>
                      </a:r>
                      <a:r>
                        <a:rPr b="0" lang="en-US" sz="2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s</a:t>
                      </a:r>
                      <a:r>
                        <a:rPr b="0" lang="en-US" sz="2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p</a:t>
                      </a:r>
                      <a:r>
                        <a:rPr b="0" lang="en-US" sz="2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s</a:t>
                      </a:r>
                      <a:r>
                        <a:rPr b="0" lang="en-US" sz="2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d</a:t>
                      </a:r>
                      <a:r>
                        <a:rPr b="0" lang="en-US" sz="2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020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ить  электронные  формулы  и   показать  электронно-графическое  распределение электро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скандия , ванадия, нике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900000" y="141300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 электроны атома образуют 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1409760" y="3165480"/>
            <a:ext cx="632448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ЛЕКТРОННУЮ ОБОЛОЧК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ЛЕКТРОННАЯ ОБОЛОЧК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ЛИТСЯ 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3635280" y="2492280"/>
            <a:ext cx="210528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ВНИ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203640" y="4221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268360" y="5300640"/>
            <a:ext cx="539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НО 7 ЭНЕРГЕТИЧЕСКИХ УРОВНЕ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ЛОЖЕННЫХ НА РАЗНЫХ РАССТОЯНИЯХ ОТ Я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050920" y="549360"/>
            <a:ext cx="4896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ВНИ состоят из ПОДУРОВНЕЙ, на которых располагаются  атомные орбитал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-, p-, d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24000" y="836640"/>
            <a:ext cx="8820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уровень –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уровен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уровень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уровн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 уровень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-, p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одуровн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 уровень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-, p-, d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уровн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468360" y="4149720"/>
            <a:ext cx="3887640" cy="2519280"/>
          </a:xfrm>
          <a:prstGeom prst="rightArrowCallout">
            <a:avLst>
              <a:gd name="adj1" fmla="val 25002"/>
              <a:gd name="adj2" fmla="val 25000"/>
              <a:gd name="adj3" fmla="val 25719"/>
              <a:gd name="adj4" fmla="val 6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 уров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 уров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 уров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284720" y="4843440"/>
            <a:ext cx="417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-, p-, d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 подуров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вантовые чис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нтовые числа описывают состояние электрона в ато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 квантовое число, характеризует  общую энергию электрона данного уровня,  принимает значения целых  чисел   -1,2,3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номер периода в ПСХЭ,  число энергетических уровней в атом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7168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baseline="-25000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n=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 3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Третий  энергетический уровень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Число  подуровней — 3    (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, 3р, 3d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Число  орбиталей  в  уровне :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N= n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=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9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в подуровнях: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  </a:t>
            </a:r>
            <a:br>
              <a:rPr sz="4000"/>
            </a:b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 — 1,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р — 3, 3d — 5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максимальное число электронов в уровне</a:t>
            </a:r>
            <a:br>
              <a:rPr sz="4000"/>
            </a:b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N=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=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 *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=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18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на подуровнях: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s 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— 2, р — 6,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d 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— 10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вантовые чис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очное квантовое число.   Характеризует форму АО. Значения от 0 д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-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 = (n -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=0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уровень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а орбитали сфер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=1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уровень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ёмна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а орбит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=2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уровень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олее сложна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а орбит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=3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уровень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ее сложна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а орбит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мер э.у. соответствует количеству    подуровней на данном энергетическом уров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8:38:20Z</dcterms:created>
  <dc:creator>Одмин</dc:creator>
  <dc:description/>
  <dc:language>en-US</dc:language>
  <cp:lastModifiedBy>Пользователь</cp:lastModifiedBy>
  <dcterms:modified xsi:type="dcterms:W3CDTF">2012-09-30T11:02:27Z</dcterms:modified>
  <cp:revision>32</cp:revision>
  <dc:subject/>
  <dc:title>Электронное строение атома</dc:title>
</cp:coreProperties>
</file>