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8A2-DCA9-4740-8D47-D20D3068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926-BA7B-41D8-92BE-C2224875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F72-03FF-454A-AA43-02C869D4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85B-08AA-47A1-9812-6EAD724D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3467-8B18-416E-B083-C2F486DB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3D84-A305-4576-91BE-4E80D139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890-4BEA-4F3B-8998-2ECD46A4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AE64-652D-4F91-BE56-F8DBA763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C313-B13D-4659-8DA7-420D37C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AD5-0574-4EEF-97F1-06054C11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2216-BD79-4A09-9179-4C5B94C4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C8A-D455-40F8-B120-266E4F27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A4A0-A04E-4289-B85E-527C7B6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7C65-9343-45B3-88A3-996F921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6B9B-8DB3-443B-9CA3-680DC466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1FE6-013F-4670-9CA5-222CEEB0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FB7-EB32-4A56-A5C8-3AD79CD7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A23D-4BA2-404D-A1D9-74FAB06E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8E4D-1A96-4236-B3C6-6BFD37E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9467-BC15-4CEE-A5DB-956C75F2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52F1-1BDE-4B3C-9241-4BE3F46F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7015-1EE7-4426-8C19-6B4007A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2D0-9040-4B0C-945E-5A704C17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A57A-9EA9-4018-B268-0975B160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1484-D16E-4E62-AB4D-4BEC7CF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0FDA-8BBB-46F0-96B7-1DEF25F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3725-3F9A-40FD-88D6-50754FE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24B6-451B-41B5-B2F5-9001C93A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5317-13DD-4970-846C-6D31F62B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E96D-E91F-44A3-BA12-3B43B2C1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E0A04-4AE4-476D-8067-772D44E1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1D70A-366B-4422-BAE6-EBB18FC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52DC0-3B46-439C-9C3D-FB792743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2A6-84BC-41C2-A497-CC8C9C96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B7EDD-DE8F-4C3D-AB55-1EE749A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2F48-6D5B-4C40-BE29-AEC5ECF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44CB-259F-4BA7-86D1-7438204B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D1FC-3AED-4D16-AF1A-4F17576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C2F7-CE1C-44B9-960D-19A746DE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2D43-3D5B-4490-9B87-C810750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07F1-B552-4ED0-829F-C42236A3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65FE-7F4F-4894-A57F-A72E5439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7E5A-3533-4D55-A827-445E4DF8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A9C-E1BF-40F8-964F-584AA51F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4E3-3400-40F0-90CC-A1C9AA44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2AD-4B9A-4E1F-AFBD-FEF6A85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CE8-D9CA-427B-8BC4-D6EE9D2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5AC-CF81-4634-BD91-1E959AD1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F884-0637-4B1D-AB27-48D74A3D03E3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2861-0093-4E1E-B9A3-48386D67B80A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95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037-A09D-4CA8-AD41-FC5BED980AF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140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404640" y="3357720"/>
              <a:ext cx="103320" cy="13644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46120" y="3362400"/>
              <a:ext cx="112680" cy="13320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681-7253-4289-B0D8-4935FF679A17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2913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знь – это способ     существования белковых тел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Ф.Энгельс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500120" y="3929040"/>
            <a:ext cx="70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Прямоугольник 4" descr=""/>
          <p:cNvPicPr/>
          <p:nvPr/>
        </p:nvPicPr>
        <p:blipFill>
          <a:blip r:embed="rId1"/>
          <a:stretch/>
        </p:blipFill>
        <p:spPr>
          <a:xfrm>
            <a:off x="2054160" y="1700280"/>
            <a:ext cx="5138640" cy="204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50920" y="2205000"/>
            <a:ext cx="4752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елки – сложные высокомолекулярные природные соединения, построенные из остатков α-аминокисл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WordArt 2"/>
          <p:cNvSpPr txBox="1"/>
          <p:nvPr/>
        </p:nvSpPr>
        <p:spPr>
          <a:xfrm>
            <a:off x="1619280" y="404640"/>
            <a:ext cx="62658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пределение белк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9942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3814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0"/>
          <p:cNvSpPr/>
          <p:nvPr/>
        </p:nvSpPr>
        <p:spPr>
          <a:xfrm flipH="1">
            <a:off x="2556000" y="177336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9"/>
          <p:cNvSpPr/>
          <p:nvPr/>
        </p:nvSpPr>
        <p:spPr>
          <a:xfrm>
            <a:off x="5580000" y="1773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5"/>
          <p:cNvSpPr/>
          <p:nvPr/>
        </p:nvSpPr>
        <p:spPr>
          <a:xfrm>
            <a:off x="2195640" y="4005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6"/>
          <p:cNvSpPr/>
          <p:nvPr/>
        </p:nvSpPr>
        <p:spPr>
          <a:xfrm>
            <a:off x="651672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1"/>
          <p:cNvSpPr/>
          <p:nvPr/>
        </p:nvSpPr>
        <p:spPr>
          <a:xfrm>
            <a:off x="1619280" y="4797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т только остатки аминокисло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4"/>
          <p:cNvSpPr/>
          <p:nvPr/>
        </p:nvSpPr>
        <p:spPr>
          <a:xfrm>
            <a:off x="5580000" y="4869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т еще и небелковую ч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Прямоугольник 18" descr=""/>
          <p:cNvPicPr/>
          <p:nvPr/>
        </p:nvPicPr>
        <p:blipFill>
          <a:blip r:embed="rId1"/>
          <a:stretch/>
        </p:blipFill>
        <p:spPr>
          <a:xfrm>
            <a:off x="2182680" y="-158760"/>
            <a:ext cx="4303800" cy="171288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9" descr=""/>
          <p:cNvPicPr/>
          <p:nvPr/>
        </p:nvPicPr>
        <p:blipFill>
          <a:blip r:embed="rId2"/>
          <a:stretch/>
        </p:blipFill>
        <p:spPr>
          <a:xfrm>
            <a:off x="1073160" y="2852640"/>
            <a:ext cx="3492360" cy="9702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0" descr=""/>
          <p:cNvPicPr/>
          <p:nvPr/>
        </p:nvPicPr>
        <p:blipFill>
          <a:blip r:embed="rId3"/>
          <a:stretch/>
        </p:blipFill>
        <p:spPr>
          <a:xfrm>
            <a:off x="5187960" y="2852640"/>
            <a:ext cx="3456000" cy="9702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11"/>
          <p:cNvSpPr/>
          <p:nvPr/>
        </p:nvSpPr>
        <p:spPr>
          <a:xfrm>
            <a:off x="3071880" y="1714680"/>
            <a:ext cx="2786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3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85920" y="534600"/>
            <a:ext cx="7338960" cy="131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В  состав белка входят химические элементы: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410920" y="2220480"/>
            <a:ext cx="346716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ерод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</a:rPr>
              <a:t>водород  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6600ff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кислород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6600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0066cc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Times New Roman"/>
              </a:rPr>
              <a:t>азот 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imes New Roman"/>
              </a:rPr>
              <a:t>сера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фосфор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spcBef>
                <a:spcPts val="799"/>
              </a:spcBef>
              <a:buClr>
                <a:srgbClr val="993300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железо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132000" cy="23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2843280" y="2133720"/>
            <a:ext cx="2004840" cy="3240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4"/>
          <p:cNvPicPr/>
          <p:nvPr/>
        </p:nvPicPr>
        <p:blipFill>
          <a:blip r:embed="rId2"/>
          <a:stretch/>
        </p:blipFill>
        <p:spPr>
          <a:xfrm>
            <a:off x="971640" y="2060640"/>
            <a:ext cx="1584360" cy="331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"/>
          <p:cNvPicPr/>
          <p:nvPr/>
        </p:nvPicPr>
        <p:blipFill>
          <a:blip r:embed="rId3"/>
          <a:stretch/>
        </p:blipFill>
        <p:spPr>
          <a:xfrm>
            <a:off x="5219640" y="2133720"/>
            <a:ext cx="1554120" cy="3240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2"/>
          <p:cNvPicPr/>
          <p:nvPr/>
        </p:nvPicPr>
        <p:blipFill>
          <a:blip r:embed="rId4"/>
          <a:stretch/>
        </p:blipFill>
        <p:spPr>
          <a:xfrm>
            <a:off x="7236000" y="2133720"/>
            <a:ext cx="1655640" cy="3240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0"/>
          <p:cNvSpPr/>
          <p:nvPr/>
        </p:nvSpPr>
        <p:spPr>
          <a:xfrm>
            <a:off x="5076720" y="58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ти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6948360" y="5805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тверти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826920" y="5805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2771640" y="580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Прямоугольник 12" descr=""/>
          <p:cNvPicPr/>
          <p:nvPr/>
        </p:nvPicPr>
        <p:blipFill>
          <a:blip r:embed="rId5"/>
          <a:stretch/>
        </p:blipFill>
        <p:spPr>
          <a:xfrm>
            <a:off x="781200" y="-30240"/>
            <a:ext cx="8154720" cy="179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8136000" cy="41976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900000" y="1125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Структуры бел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627280" y="2349360"/>
            <a:ext cx="612144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оследовательность чередования аминокислотных звеньев в линейной полипептидной цеп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71640" y="3357720"/>
            <a:ext cx="2314440" cy="3143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Цепи свернуты в виде спирали, которая образуется благодаря водородным связям между группами –СО-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NH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- на соседних витках спира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851280" y="3357720"/>
            <a:ext cx="2077920" cy="296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В пространстве в  разных направлениях закрученная в спираль полипептидная цеп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88000" y="3573360"/>
            <a:ext cx="187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659640" y="3357720"/>
            <a:ext cx="2055600" cy="3034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Несколько полипептидных цепей объединенных в единый комп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4143240" y="2857680"/>
            <a:ext cx="3959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76360" y="2565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357800" y="40719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476360" y="32846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1547640" y="4581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Прямоугольник 14" descr=""/>
          <p:cNvPicPr/>
          <p:nvPr/>
        </p:nvPicPr>
        <p:blipFill>
          <a:blip r:embed="rId1"/>
          <a:stretch/>
        </p:blipFill>
        <p:spPr>
          <a:xfrm>
            <a:off x="1542960" y="152280"/>
            <a:ext cx="626580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10713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Строительная</a:t>
            </a: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Защитная</a:t>
            </a: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Транспортная</a:t>
            </a: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Запасная</a:t>
            </a: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Энергетическая</a:t>
            </a: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Регуляторная </a:t>
            </a: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Каталитическая</a:t>
            </a:r>
            <a:br>
              <a:rPr sz="3200"/>
            </a:b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Сократительная</a:t>
            </a:r>
            <a:br>
              <a:rPr sz="3200"/>
            </a:b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01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36:40Z</dcterms:created>
  <dc:creator>администратор</dc:creator>
  <dc:description/>
  <dc:language>en-US</dc:language>
  <cp:lastModifiedBy>Александр</cp:lastModifiedBy>
  <dcterms:modified xsi:type="dcterms:W3CDTF">2012-01-25T09:42:41Z</dcterms:modified>
  <cp:revision>94</cp:revision>
  <dc:subject/>
  <dc:title>СТРОЕНИЕ</dc:title>
</cp:coreProperties>
</file>