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06C0-7D02-4360-922A-5D636F9D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D069-D562-4025-BFA2-C3E70F6C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0988-91D8-4D57-851B-C887B69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7BE6-C2BD-4557-848F-639A6999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4D71-D3FA-45C6-91B9-B56C409C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375-01F5-48DF-A0C1-41061ED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3DC-605A-48C3-9579-1C001A8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347-AA29-4C1F-A899-FFBA445C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D105-B411-4290-94EB-FDCB9255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1B8-3B80-46C0-8866-313F33F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083F-FCB3-4F28-AD3D-B234468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C7E7-3FD9-4EBE-887B-78DF9C2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786B-8CBE-4E57-A07F-38F228C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DD5-FCA4-48AF-9602-A12207A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FF1-2622-4E23-911A-4A0EAB0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A70-2A2E-403C-B87F-5A1A33A4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A38-5174-4235-A1C0-AC723E33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2E98-ABA4-4CDB-8C1E-A457A3D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64F1-BCE9-4461-A3D0-8CF3650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8184-7BB1-4D9D-8CB8-837B50F4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D7CE-5C2B-41B7-B39D-527EA85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89F1-90C1-4285-B2BD-E4957C3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A9CE-3597-4602-AD9A-A2F1994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B79E-14B2-452F-997B-422ED92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CFF-02C2-4E03-B452-FDB8520C10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B8F-2058-4190-9CC3-E57CC86859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60208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Химическая связь и ее тип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46560" y="189000"/>
            <a:ext cx="48974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1840" y="5661000"/>
            <a:ext cx="450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перекрывания электронных орбита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с3безымянный1"/>
          <p:cNvPicPr/>
          <p:nvPr/>
        </p:nvPicPr>
        <p:blipFill>
          <a:blip r:embed="rId1"/>
          <a:stretch/>
        </p:blipFill>
        <p:spPr>
          <a:xfrm>
            <a:off x="179280" y="1197000"/>
            <a:ext cx="4897440" cy="170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кс33безымянный1"/>
          <p:cNvPicPr/>
          <p:nvPr/>
        </p:nvPicPr>
        <p:blipFill>
          <a:blip r:embed="rId2"/>
          <a:stretch/>
        </p:blipFill>
        <p:spPr>
          <a:xfrm>
            <a:off x="179280" y="3429000"/>
            <a:ext cx="4896000" cy="280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кс333безымянный1"/>
          <p:cNvPicPr/>
          <p:nvPr/>
        </p:nvPicPr>
        <p:blipFill>
          <a:blip r:embed="rId3"/>
          <a:stretch/>
        </p:blipFill>
        <p:spPr>
          <a:xfrm>
            <a:off x="5796000" y="1197000"/>
            <a:ext cx="2592360" cy="1514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651640" y="2492280"/>
            <a:ext cx="302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№ 1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 определения   сигма- связь и пи-  свя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148360" y="471888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ярность ковалентн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епень смещ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их электронных пар к одному из связанных ими атом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Organization Chart 9"/>
          <p:cNvGrpSpPr/>
          <p:nvPr/>
        </p:nvGrpSpPr>
        <p:grpSpPr>
          <a:xfrm>
            <a:off x="3094920" y="2204640"/>
            <a:ext cx="2672280" cy="1041480"/>
            <a:chOff x="3094920" y="2204640"/>
            <a:chExt cx="2672280" cy="104148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4673160" y="2368800"/>
              <a:ext cx="228960" cy="714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H="1" flipV="1" rot="5400000">
              <a:off x="3960000" y="2370600"/>
              <a:ext cx="228960" cy="7117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1030"/>
            <p:cNvSpPr/>
            <p:nvPr/>
          </p:nvSpPr>
          <p:spPr>
            <a:xfrm>
              <a:off x="3954240" y="2204640"/>
              <a:ext cx="952920" cy="407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вяз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3094920" y="2841120"/>
              <a:ext cx="1246320" cy="405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поляр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520880" y="2841120"/>
              <a:ext cx="1246320" cy="405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яр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8"/>
          <p:cNvSpPr/>
          <p:nvPr/>
        </p:nvSpPr>
        <p:spPr>
          <a:xfrm>
            <a:off x="2556000" y="537372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ктроотрица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О) — свойство оттягивать к себе валентные электроны от других ат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611280" y="3429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валентную химическую связь, образующуюся между атомами с одинаковой электроотрицательностью, называют не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4572000" y="3429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валентную химическую связь, образующуюся между атомами с разной электроотрицательностью, называют 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684360" y="494172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6516720" y="5013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7093080" y="5445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1332000" y="544500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149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тность ковалент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их электронных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ывающих а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564000" y="2997360"/>
            <a:ext cx="1998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углер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=с=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651640" y="2997360"/>
            <a:ext cx="122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979640" y="2997360"/>
            <a:ext cx="158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rganization Chart 8"/>
          <p:cNvGrpSpPr/>
          <p:nvPr/>
        </p:nvGrpSpPr>
        <p:grpSpPr>
          <a:xfrm>
            <a:off x="2340000" y="1412280"/>
            <a:ext cx="4092120" cy="1223640"/>
            <a:chOff x="2340000" y="1412280"/>
            <a:chExt cx="4092120" cy="122364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988160" y="1217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V="1">
              <a:off x="4386240" y="1819800"/>
              <a:ext cx="180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555720" y="1217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5"/>
            <p:cNvSpPr/>
            <p:nvPr/>
          </p:nvSpPr>
          <p:spPr>
            <a:xfrm>
              <a:off x="3842640" y="1412280"/>
              <a:ext cx="1085400" cy="407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6"/>
            <p:cNvSpPr/>
            <p:nvPr/>
          </p:nvSpPr>
          <p:spPr>
            <a:xfrm>
              <a:off x="234000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одинар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377244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двой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8"/>
            <p:cNvSpPr/>
            <p:nvPr/>
          </p:nvSpPr>
          <p:spPr>
            <a:xfrm>
              <a:off x="520488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трой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17"/>
          <p:cNvSpPr/>
          <p:nvPr/>
        </p:nvSpPr>
        <p:spPr>
          <a:xfrm>
            <a:off x="6156360" y="40053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6156360" y="40766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6156360" y="41497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50920" y="479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типы химических связей между атомами в веществ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357120" y="3286080"/>
            <a:ext cx="85010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 Н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 К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aO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87850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ой связь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ним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кое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взаимодействие ато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торое связывает их в </a:t>
            </a: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молекулы, </a:t>
            </a:r>
            <a:br>
              <a:rPr sz="3200"/>
            </a:b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ионы, радикалы, кристаллы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онная хим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147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вязь, образовавшаяся за с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статического притя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о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анио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68360" y="49417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ИС"/>
          <p:cNvPicPr/>
          <p:nvPr/>
        </p:nvPicPr>
        <p:blipFill>
          <a:blip r:embed="rId1"/>
          <a:stretch/>
        </p:blipFill>
        <p:spPr>
          <a:xfrm>
            <a:off x="324000" y="2924280"/>
            <a:ext cx="5962680" cy="307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ИС 1"/>
          <p:cNvPicPr/>
          <p:nvPr/>
        </p:nvPicPr>
        <p:blipFill>
          <a:blip r:embed="rId2"/>
          <a:stretch/>
        </p:blipFill>
        <p:spPr>
          <a:xfrm>
            <a:off x="6443640" y="2492280"/>
            <a:ext cx="2330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259920"/>
            <a:ext cx="4680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связь между положительно поляризованными атомами водорода одной молекулы (или ее части) и отрицательно поляризованными атомами сильно электроотрицательных элементов, имеющих неподеленные электронные па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N и реже С1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молекулы (или ее ч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H…..O    H…..O    H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            H           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529272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900000" y="43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276720" y="4365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580000" y="43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1128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98764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в металлах и сплавах, которую выполняют относительно свободные электроны между ионами металлов в металлической кристаллической реш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4869000"/>
            <a:ext cx="33224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411280" y="4292640"/>
            <a:ext cx="4392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—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    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1640" y="40053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образования металлической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356000" y="4941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4716360" y="5157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79280" y="551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формулы веществ, в которых присутствует металлическая и водородная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, KF, N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OH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AL, Na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валентная химическ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вязь, возникающая между атомами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за сч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я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их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электронных 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кс1"/>
          <p:cNvPicPr/>
          <p:nvPr/>
        </p:nvPicPr>
        <p:blipFill>
          <a:blip r:embed="rId1"/>
          <a:stretch/>
        </p:blipFill>
        <p:spPr>
          <a:xfrm>
            <a:off x="395280" y="3716280"/>
            <a:ext cx="8064360" cy="15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с111"/>
          <p:cNvPicPr/>
          <p:nvPr/>
        </p:nvPicPr>
        <p:blipFill>
          <a:blip r:embed="rId2"/>
          <a:stretch/>
        </p:blipFill>
        <p:spPr>
          <a:xfrm>
            <a:off x="3203640" y="5445000"/>
            <a:ext cx="5184720" cy="1258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5580000" y="2781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м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норно-акцепт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906920" y="292428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ханизм образования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с2безымянный1"/>
          <p:cNvPicPr/>
          <p:nvPr/>
        </p:nvPicPr>
        <p:blipFill>
          <a:blip r:embed="rId1"/>
          <a:stretch/>
        </p:blipFill>
        <p:spPr>
          <a:xfrm>
            <a:off x="1187280" y="549360"/>
            <a:ext cx="6336000" cy="265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кс22безымянный1"/>
          <p:cNvPicPr/>
          <p:nvPr/>
        </p:nvPicPr>
        <p:blipFill>
          <a:blip r:embed="rId2"/>
          <a:stretch/>
        </p:blipFill>
        <p:spPr>
          <a:xfrm>
            <a:off x="1692360" y="3357720"/>
            <a:ext cx="5400720" cy="90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кс222безымянный1"/>
          <p:cNvPicPr/>
          <p:nvPr/>
        </p:nvPicPr>
        <p:blipFill>
          <a:blip r:embed="rId3"/>
          <a:stretch/>
        </p:blipFill>
        <p:spPr>
          <a:xfrm>
            <a:off x="755640" y="4653000"/>
            <a:ext cx="77040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1356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АРАКТЕРИСТИКА  КОВАЛЕНТНОЙ 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71476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Свойства  ковалентной 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Донорно-акцепторный  механизм  образования ковалентной 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Способ перекрывания электронных орби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Полярность ковален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 Кратность ковален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норно-акцепторный мех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безымянный1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1-10-24T14:33:52Z</dcterms:modified>
  <cp:revision>42</cp:revision>
  <dc:subject/>
  <dc:title>PowerPoint Presentation</dc:title>
</cp:coreProperties>
</file>