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807B-C892-4202-9CFC-891F0858903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B5D8-C134-471F-A0E1-12B766F2D4D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98DB-47BC-4FCD-A3E5-BD566A5D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2727-76AB-4B5A-88C7-F8EF5950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F836-7B0C-41C6-A5C9-FA002206E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3BE8-7081-4C1D-B6C8-F36285FE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5E17-872C-4C39-9A28-5BCCE514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5C0F-AFE9-4DA1-B46F-CB064B66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B11C-38A7-4BFC-924B-42824A70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05E5-2471-401A-976D-9699E370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985B-75E9-4481-80DE-B5EF478B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F47E-6142-4340-AC55-A41CB53D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0B3C-2677-42D8-89E7-2BB75E23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D3D7-96CD-49CD-AECA-99D5A198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5672-CF8E-412E-9B3B-44A77BE7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0F04-4244-482D-A003-99F933CFE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9F4A-C07B-4A54-8CBC-391D2E2C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CDB5-4ECF-455A-AD3F-2A1B912B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2022-8345-493D-9F2E-9AF0904C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DDAF-5CFD-4EA8-8848-1EEBF64A0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CC0B-46BC-4D8B-8414-5B332DBE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B051-9D99-497A-886A-ABF3F5D30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886B-A359-4D0D-98CD-797E14DD2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FBAB-E1B3-46B9-A2F9-F62E5E6A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A3B3-D121-4C54-83AC-B5284877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A26C-9204-41D6-9387-20E21799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F4A9-4F44-43FF-826E-DA51B75A5658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BC62-0F71-4761-924B-201A2F3A3592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&#1040;&#1085;&#1088;&#1080;.doc" TargetMode="External"/><Relationship Id="rId3" Type="http://schemas.openxmlformats.org/officeDocument/2006/relationships/hyperlink" Target="file:///&#1040;&#1085;&#1088;&#1080;.doc" TargetMode="External"/><Relationship Id="rId4" Type="http://schemas.openxmlformats.org/officeDocument/2006/relationships/hyperlink" Target="file:///&#1040;&#1085;&#1088;&#1080;.doc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266720" y="4647960"/>
            <a:ext cx="4343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9898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WordArt 4"/>
          <p:cNvSpPr txBox="1"/>
          <p:nvPr/>
        </p:nvSpPr>
        <p:spPr>
          <a:xfrm>
            <a:off x="155520" y="380880"/>
            <a:ext cx="87631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8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Обратимость химических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8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8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реакций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8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838080" y="2743200"/>
            <a:ext cx="7543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008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Химическое равновесие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008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Л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0004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↑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щается в сторону    меньшего объе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 ↓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щается в сторону большего объем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ФАКТОР - ТЕМПЕРАТ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5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 3H</a:t>
            </a:r>
            <a:r>
              <a:rPr b="1" lang="ru-RU" sz="5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 2NH</a:t>
            </a:r>
            <a:r>
              <a:rPr b="1" lang="ru-RU" sz="5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 Q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NH</a:t>
            </a:r>
            <a:r>
              <a:rPr b="1" lang="ru-RU" sz="5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 N</a:t>
            </a:r>
            <a:r>
              <a:rPr b="1" lang="ru-RU" sz="5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  3H</a:t>
            </a:r>
            <a:r>
              <a:rPr b="1" lang="ru-RU" sz="5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Q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я реагентов 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сторону продукт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я продуктов 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сторону реагент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Е КАТАЛИЗАТОРОВ  НА РАВНОВЕСИЕ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712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ИЗАТОРЫ В РАВНОЙ СТЕПЕНИ УСКОРЯЮТ И ПРЯМУЮ И ОБРАТНУЮ , ИЗМЕНЯЯ ЭНЕРГИЮ АКТИВАЦИИ И ТОЙ И ДРУГОЙ НА ОДНУ И ТУЖЕ ВЕЛИЧИН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8" descr=""/>
          <p:cNvPicPr/>
          <p:nvPr/>
        </p:nvPicPr>
        <p:blipFill>
          <a:blip r:embed="rId1"/>
          <a:srcRect l="0" t="-1164" r="33568" b="0"/>
          <a:stretch/>
        </p:blipFill>
        <p:spPr>
          <a:xfrm>
            <a:off x="971640" y="0"/>
            <a:ext cx="709272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ВЕРСАЛЬНОСТЬ ПРИПЦИП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92860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428760" y="1571760"/>
            <a:ext cx="82152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химии  используется для увеличения выхода реакци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армакологии – для уточнения условий баланса биологической системы 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кономике принцип позволяет объяснить равновесие цен в эффективных экономических системах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объясняет многие стороны живых систем и поведения человека как природной системы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"/>
          <p:cNvGraphicFramePr/>
          <p:nvPr/>
        </p:nvGraphicFramePr>
        <p:xfrm>
          <a:off x="380880" y="160200"/>
          <a:ext cx="8229600" cy="6685200"/>
        </p:xfrm>
        <a:graphic>
          <a:graphicData uri="http://schemas.openxmlformats.org/drawingml/2006/table">
            <a:tbl>
              <a:tblPr/>
              <a:tblGrid>
                <a:gridCol w="3581640"/>
                <a:gridCol w="1752480"/>
                <a:gridCol w="2895480"/>
              </a:tblGrid>
              <a:tr h="123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Bodoni MT"/>
                        </a:rPr>
                        <a:t>Обратимые ре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Bodoni MT"/>
                        </a:rPr>
                        <a:t>Характер воз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Bodoni MT"/>
                        </a:rPr>
                        <a:t>Направление, смещение равновесия реакци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doni MT"/>
                        </a:rPr>
                        <a:t>N2 + O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doni MT"/>
                        </a:rPr>
                        <a:t> 2NO -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doni MT"/>
                        </a:rPr>
                        <a:t>p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doni M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doni MT"/>
                        </a:rPr>
                        <a:t>p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doni MT"/>
                        </a:rPr>
                        <a:t>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doni M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4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doni M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2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(O2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ил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C(N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doni M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(O2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ил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C(N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doni MT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5" name="Group 202"/>
          <p:cNvGrpSpPr/>
          <p:nvPr/>
        </p:nvGrpSpPr>
        <p:grpSpPr>
          <a:xfrm>
            <a:off x="5486400" y="1371600"/>
            <a:ext cx="76320" cy="4962600"/>
            <a:chOff x="5486400" y="1371600"/>
            <a:chExt cx="76320" cy="4962600"/>
          </a:xfrm>
        </p:grpSpPr>
        <p:sp>
          <p:nvSpPr>
            <p:cNvPr id="146" name="Line 133"/>
            <p:cNvSpPr/>
            <p:nvPr/>
          </p:nvSpPr>
          <p:spPr>
            <a:xfrm>
              <a:off x="5562720" y="1990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135"/>
            <p:cNvSpPr/>
            <p:nvPr/>
          </p:nvSpPr>
          <p:spPr>
            <a:xfrm flipV="1">
              <a:off x="5521320" y="25718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156"/>
            <p:cNvSpPr/>
            <p:nvPr/>
          </p:nvSpPr>
          <p:spPr>
            <a:xfrm>
              <a:off x="5499000" y="35305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172"/>
            <p:cNvSpPr/>
            <p:nvPr/>
          </p:nvSpPr>
          <p:spPr>
            <a:xfrm flipV="1">
              <a:off x="5540400" y="13716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0" name="Line 173"/>
            <p:cNvSpPr/>
            <p:nvPr/>
          </p:nvSpPr>
          <p:spPr>
            <a:xfrm flipV="1">
              <a:off x="5486400" y="488628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Line 183"/>
            <p:cNvSpPr/>
            <p:nvPr/>
          </p:nvSpPr>
          <p:spPr>
            <a:xfrm>
              <a:off x="5562720" y="595296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2" name="Picture 203" descr=""/>
          <p:cNvPicPr/>
          <p:nvPr/>
        </p:nvPicPr>
        <p:blipFill>
          <a:blip r:embed="rId1"/>
          <a:stretch/>
        </p:blipFill>
        <p:spPr>
          <a:xfrm>
            <a:off x="914400" y="4641840"/>
            <a:ext cx="171468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380880" y="160200"/>
          <a:ext cx="8229600" cy="6685200"/>
        </p:xfrm>
        <a:graphic>
          <a:graphicData uri="http://schemas.openxmlformats.org/drawingml/2006/table">
            <a:tbl>
              <a:tblPr/>
              <a:tblGrid>
                <a:gridCol w="3581640"/>
                <a:gridCol w="1752480"/>
                <a:gridCol w="2895480"/>
              </a:tblGrid>
              <a:tr h="118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Bodoni MT"/>
                        </a:rPr>
                        <a:t>Обратимые ре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Bodoni MT"/>
                        </a:rPr>
                        <a:t>Характер воздейств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Bodoni MT"/>
                        </a:rPr>
                        <a:t>Направление, смещение равновесия реакции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doni MT"/>
                        </a:rPr>
                        <a:t>N2 + O2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Bodoni MT"/>
                        </a:rPr>
                        <a:t> 2NO - 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doni MT"/>
                        </a:rPr>
                        <a:t>p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doni MT"/>
                        </a:rPr>
                        <a:t>Равновесие не смещается, т.к. объем газов не меняетс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doni MT"/>
                        </a:rPr>
                        <a:t>p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doni MT"/>
                        </a:rPr>
                        <a:t>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doni MT"/>
                        </a:rPr>
                        <a:t>Вправо в сторону эндотермической ре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doni MT"/>
                        </a:rPr>
                        <a:t>Влево в сторону экзотермической ре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97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(O2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ил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C(N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doni MT"/>
                        </a:rPr>
                        <a:t>Вправо в сторону прямой ре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(O2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или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C(N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Bodoni MT"/>
                        </a:rPr>
                        <a:t>Влево в сторону обратной реак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54" name="Group 202"/>
          <p:cNvGrpSpPr/>
          <p:nvPr/>
        </p:nvGrpSpPr>
        <p:grpSpPr>
          <a:xfrm>
            <a:off x="5486400" y="1371600"/>
            <a:ext cx="76320" cy="4962600"/>
            <a:chOff x="5486400" y="1371600"/>
            <a:chExt cx="76320" cy="4962600"/>
          </a:xfrm>
        </p:grpSpPr>
        <p:sp>
          <p:nvSpPr>
            <p:cNvPr id="155" name="Line 133"/>
            <p:cNvSpPr/>
            <p:nvPr/>
          </p:nvSpPr>
          <p:spPr>
            <a:xfrm>
              <a:off x="5562720" y="1990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Line 135"/>
            <p:cNvSpPr/>
            <p:nvPr/>
          </p:nvSpPr>
          <p:spPr>
            <a:xfrm flipV="1">
              <a:off x="5521320" y="25718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Line 156"/>
            <p:cNvSpPr/>
            <p:nvPr/>
          </p:nvSpPr>
          <p:spPr>
            <a:xfrm>
              <a:off x="5499000" y="3530520"/>
              <a:ext cx="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Line 172"/>
            <p:cNvSpPr/>
            <p:nvPr/>
          </p:nvSpPr>
          <p:spPr>
            <a:xfrm flipV="1">
              <a:off x="5540400" y="13716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Line 173"/>
            <p:cNvSpPr/>
            <p:nvPr/>
          </p:nvSpPr>
          <p:spPr>
            <a:xfrm flipV="1">
              <a:off x="5486400" y="488628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Line 183"/>
            <p:cNvSpPr/>
            <p:nvPr/>
          </p:nvSpPr>
          <p:spPr>
            <a:xfrm>
              <a:off x="5562720" y="595296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61" name="Picture 203" descr=""/>
          <p:cNvPicPr/>
          <p:nvPr/>
        </p:nvPicPr>
        <p:blipFill>
          <a:blip r:embed="rId1"/>
          <a:stretch/>
        </p:blipFill>
        <p:spPr>
          <a:xfrm>
            <a:off x="914400" y="4641840"/>
            <a:ext cx="171468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Понятие  о  химическом  равновеси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 Константа  равновес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. Принцип Ле Шатель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.Смешение  химического  равновес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296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Bodoni MT"/>
              </a:rPr>
              <a:t>Какие из химических реакций являются обратим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04920" y="1031760"/>
            <a:ext cx="883908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1.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NaOH </a:t>
            </a: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HC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NaCl + H</a:t>
            </a: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+ 3H</a:t>
            </a: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2NH</a:t>
            </a: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3.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AgNO</a:t>
            </a: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+ NaC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AgCl + NaNO</a:t>
            </a: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4.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SO</a:t>
            </a: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+ H</a:t>
            </a: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O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H</a:t>
            </a: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SO</a:t>
            </a:r>
            <a:r>
              <a:rPr b="0" lang="ru-RU" sz="2000" spc="-1" strike="noStrike">
                <a:solidFill>
                  <a:srgbClr val="000000"/>
                </a:solidFill>
                <a:latin typeface="Bodoni MT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5.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CH</a:t>
            </a: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+ 2O</a:t>
            </a: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CO</a:t>
            </a: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+ 2H</a:t>
            </a: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6.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2SO</a:t>
            </a: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+ O</a:t>
            </a: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2SO</a:t>
            </a: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7. 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HCOOH + CH</a:t>
            </a: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O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HCOOCH</a:t>
            </a: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 + H</a:t>
            </a:r>
            <a:r>
              <a:rPr b="0" lang="en-US" sz="2000" spc="-1" strike="noStrike">
                <a:solidFill>
                  <a:srgbClr val="000000"/>
                </a:solidFill>
                <a:latin typeface="Bodoni MT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Bodoni MT"/>
              </a:rPr>
              <a:t>O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17"/>
          <p:cNvSpPr/>
          <p:nvPr/>
        </p:nvSpPr>
        <p:spPr>
          <a:xfrm>
            <a:off x="568440" y="357120"/>
            <a:ext cx="7848360" cy="60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Line 18"/>
          <p:cNvSpPr/>
          <p:nvPr/>
        </p:nvSpPr>
        <p:spPr>
          <a:xfrm>
            <a:off x="4724280" y="2666880"/>
            <a:ext cx="1800" cy="2239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Group 28"/>
          <p:cNvGrpSpPr/>
          <p:nvPr/>
        </p:nvGrpSpPr>
        <p:grpSpPr>
          <a:xfrm>
            <a:off x="533520" y="804600"/>
            <a:ext cx="7659720" cy="5158080"/>
            <a:chOff x="533520" y="804600"/>
            <a:chExt cx="7659720" cy="5158080"/>
          </a:xfrm>
        </p:grpSpPr>
        <p:sp>
          <p:nvSpPr>
            <p:cNvPr id="99" name="Text Box 19"/>
            <p:cNvSpPr/>
            <p:nvPr/>
          </p:nvSpPr>
          <p:spPr>
            <a:xfrm>
              <a:off x="3708360" y="5065560"/>
              <a:ext cx="2465280" cy="8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doni MT"/>
                </a:rPr>
                <a:t>Момент равновес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Text Box 20"/>
            <p:cNvSpPr/>
            <p:nvPr/>
          </p:nvSpPr>
          <p:spPr>
            <a:xfrm>
              <a:off x="7296120" y="4840200"/>
              <a:ext cx="897120" cy="67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doni MT"/>
                </a:rPr>
                <a:t>t, c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Text Box 21"/>
            <p:cNvSpPr/>
            <p:nvPr/>
          </p:nvSpPr>
          <p:spPr>
            <a:xfrm>
              <a:off x="533520" y="990720"/>
              <a:ext cx="2017440" cy="11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Bodoni MT"/>
                </a:rPr>
                <a:t>V </a:t>
              </a:r>
              <a:r>
                <a:rPr b="0" lang="ru-RU" sz="1600" spc="-1" strike="noStrike">
                  <a:solidFill>
                    <a:srgbClr val="000000"/>
                  </a:solidFill>
                  <a:latin typeface="Bodoni MT"/>
                </a:rPr>
                <a:t>моль/л с</a:t>
              </a:r>
              <a:r>
                <a:rPr b="0" lang="en-US" sz="2400" spc="-1" strike="noStrike">
                  <a:solidFill>
                    <a:srgbClr val="000000"/>
                  </a:solidFill>
                  <a:latin typeface="Bodoni MT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Bodoni M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Line 22"/>
            <p:cNvSpPr/>
            <p:nvPr/>
          </p:nvSpPr>
          <p:spPr>
            <a:xfrm flipV="1">
              <a:off x="1913040" y="804600"/>
              <a:ext cx="0" cy="4035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Text Box 23"/>
            <p:cNvSpPr/>
            <p:nvPr/>
          </p:nvSpPr>
          <p:spPr>
            <a:xfrm>
              <a:off x="2359080" y="1254240"/>
              <a:ext cx="1795320" cy="13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doni MT"/>
                </a:rPr>
                <a:t>V</a:t>
              </a:r>
              <a:r>
                <a:rPr b="0" lang="ru-RU" sz="1600" spc="-1" strike="noStrike">
                  <a:solidFill>
                    <a:srgbClr val="000000"/>
                  </a:solidFill>
                  <a:latin typeface="Bodoni MT"/>
                </a:rPr>
                <a:t>прямая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Freeform 24"/>
            <p:cNvSpPr/>
            <p:nvPr/>
          </p:nvSpPr>
          <p:spPr>
            <a:xfrm>
              <a:off x="2139840" y="1028880"/>
              <a:ext cx="4294440" cy="1645920"/>
            </a:xfrm>
            <a:prstGeom prst="pie">
              <a:avLst/>
            </a:pr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" name="Text Box 25"/>
            <p:cNvSpPr/>
            <p:nvPr/>
          </p:nvSpPr>
          <p:spPr>
            <a:xfrm>
              <a:off x="2438280" y="3276720"/>
              <a:ext cx="2243160" cy="13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Bodoni MT"/>
                </a:rPr>
                <a:t>V</a:t>
              </a:r>
              <a:r>
                <a:rPr b="0" lang="ru-RU" sz="1600" spc="-1" strike="noStrike">
                  <a:solidFill>
                    <a:srgbClr val="000000"/>
                  </a:solidFill>
                  <a:latin typeface="Bodoni MT"/>
                </a:rPr>
                <a:t>обратная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6" name="Freeform 26"/>
            <p:cNvSpPr/>
            <p:nvPr/>
          </p:nvSpPr>
          <p:spPr>
            <a:xfrm flipV="1">
              <a:off x="2139840" y="2597760"/>
              <a:ext cx="4294440" cy="1873080"/>
            </a:xfrm>
            <a:prstGeom prst="pie">
              <a:avLst/>
            </a:pr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Line 27"/>
            <p:cNvSpPr/>
            <p:nvPr/>
          </p:nvSpPr>
          <p:spPr>
            <a:xfrm>
              <a:off x="1913040" y="4840200"/>
              <a:ext cx="605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станта  равновес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N2 + O2 </a:t>
            </a: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 2NO - Q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03" descr=""/>
          <p:cNvPicPr/>
          <p:nvPr/>
        </p:nvPicPr>
        <p:blipFill>
          <a:blip r:embed="rId1"/>
          <a:stretch/>
        </p:blipFill>
        <p:spPr>
          <a:xfrm>
            <a:off x="914400" y="2666880"/>
            <a:ext cx="6553080" cy="32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ри Луи Ле Шателье (1850–1936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Содержимое 3" descr="lechatelier"/>
          <p:cNvPicPr/>
          <p:nvPr/>
        </p:nvPicPr>
        <p:blipFill>
          <a:blip r:embed="rId1"/>
          <a:stretch/>
        </p:blipFill>
        <p:spPr>
          <a:xfrm>
            <a:off x="571680" y="1214280"/>
            <a:ext cx="3232080" cy="4526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214880" y="1285920"/>
            <a:ext cx="464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-Шателье (принци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щения хим.равновесия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инцип противоложностей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 высказана в общем виде в 1884 году французским ученым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Ле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Шатель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еоретически обоснован Ф. Брауном в 1887 г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355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ЛЕ-ШАТЕЛЬ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42600" y="1500120"/>
            <a:ext cx="8072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а систему, находящуюся в равновесии оказывается воздействие          (изменяется концентрация, давление, температура), то равновесие смещается в ту сторону, которая ослабляет данное воздейств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Факторы,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Bodoni MT"/>
              </a:rPr>
              <a:t>влияющие на смещение химического равновесия.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380880" y="304920"/>
            <a:ext cx="822960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5"/>
          <p:cNvSpPr/>
          <p:nvPr/>
        </p:nvSpPr>
        <p:spPr>
          <a:xfrm flipH="1">
            <a:off x="1066320" y="2286000"/>
            <a:ext cx="1143000" cy="1371600"/>
          </a:xfrm>
          <a:prstGeom prst="line">
            <a:avLst/>
          </a:prstGeom>
          <a:ln w="414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419720" y="2286000"/>
            <a:ext cx="0" cy="1447920"/>
          </a:xfrm>
          <a:prstGeom prst="line">
            <a:avLst/>
          </a:prstGeom>
          <a:ln w="414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6629400" y="2286000"/>
            <a:ext cx="990720" cy="1371600"/>
          </a:xfrm>
          <a:prstGeom prst="line">
            <a:avLst/>
          </a:prstGeom>
          <a:ln w="414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1" name="Group 15"/>
          <p:cNvGrpSpPr/>
          <p:nvPr/>
        </p:nvGrpSpPr>
        <p:grpSpPr>
          <a:xfrm>
            <a:off x="228600" y="3657600"/>
            <a:ext cx="2362320" cy="1905120"/>
            <a:chOff x="228600" y="3657600"/>
            <a:chExt cx="2362320" cy="1905120"/>
          </a:xfrm>
        </p:grpSpPr>
        <p:sp>
          <p:nvSpPr>
            <p:cNvPr id="122" name="Rectangle 9"/>
            <p:cNvSpPr/>
            <p:nvPr/>
          </p:nvSpPr>
          <p:spPr>
            <a:xfrm>
              <a:off x="228600" y="3657600"/>
              <a:ext cx="205740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Text Box 12"/>
            <p:cNvSpPr/>
            <p:nvPr/>
          </p:nvSpPr>
          <p:spPr>
            <a:xfrm>
              <a:off x="380880" y="3962520"/>
              <a:ext cx="2210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doni MT"/>
                </a:rPr>
                <a:t>Влияние изменения температур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4" name="Group 16"/>
          <p:cNvGrpSpPr/>
          <p:nvPr/>
        </p:nvGrpSpPr>
        <p:grpSpPr>
          <a:xfrm>
            <a:off x="3352680" y="3657600"/>
            <a:ext cx="2320920" cy="1905120"/>
            <a:chOff x="3352680" y="3657600"/>
            <a:chExt cx="2320920" cy="1905120"/>
          </a:xfrm>
        </p:grpSpPr>
        <p:sp>
          <p:nvSpPr>
            <p:cNvPr id="125" name="Rectangle 10"/>
            <p:cNvSpPr/>
            <p:nvPr/>
          </p:nvSpPr>
          <p:spPr>
            <a:xfrm>
              <a:off x="3352680" y="3657600"/>
              <a:ext cx="221004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Text Box 13"/>
            <p:cNvSpPr/>
            <p:nvPr/>
          </p:nvSpPr>
          <p:spPr>
            <a:xfrm>
              <a:off x="3540240" y="3886200"/>
              <a:ext cx="21333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doni MT"/>
                </a:rPr>
                <a:t>Влияние изменения концентрации</a:t>
              </a:r>
              <a:r>
                <a:rPr b="0" lang="ru-RU" sz="1800" spc="-1" strike="noStrike">
                  <a:solidFill>
                    <a:srgbClr val="000000"/>
                  </a:solidFill>
                  <a:latin typeface="Bodoni MT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7" name="Group 17"/>
          <p:cNvGrpSpPr/>
          <p:nvPr/>
        </p:nvGrpSpPr>
        <p:grpSpPr>
          <a:xfrm>
            <a:off x="6858000" y="3657600"/>
            <a:ext cx="1981080" cy="1937880"/>
            <a:chOff x="6858000" y="3657600"/>
            <a:chExt cx="1981080" cy="1937880"/>
          </a:xfrm>
        </p:grpSpPr>
        <p:sp>
          <p:nvSpPr>
            <p:cNvPr id="128" name="Rectangle 11"/>
            <p:cNvSpPr/>
            <p:nvPr/>
          </p:nvSpPr>
          <p:spPr>
            <a:xfrm>
              <a:off x="6858000" y="3657600"/>
              <a:ext cx="1828800" cy="1905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eeece1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Rectangle 14"/>
            <p:cNvSpPr/>
            <p:nvPr/>
          </p:nvSpPr>
          <p:spPr>
            <a:xfrm>
              <a:off x="7010280" y="4038480"/>
              <a:ext cx="1828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Bodoni MT"/>
                </a:rPr>
                <a:t>Влияние изменения давл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7142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N</a:t>
            </a:r>
            <a:r>
              <a:rPr b="1" lang="ru-RU" sz="5400" spc="-1" strike="noStrike" baseline="-25000">
                <a:solidFill>
                  <a:srgbClr val="00b050"/>
                </a:solidFill>
                <a:latin typeface="Times New Roman"/>
                <a:ea typeface="Times New Roman"/>
              </a:rPr>
              <a:t>2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+   </a:t>
            </a: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H</a:t>
            </a:r>
            <a:r>
              <a:rPr b="1" lang="ru-RU" sz="54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ru-RU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↔     </a:t>
            </a: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NH</a:t>
            </a:r>
            <a:r>
              <a:rPr b="1" lang="ru-RU" sz="5400" spc="-1" strike="noStrike" baseline="-25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 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а 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а                       2 объе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ФАКТОР - ДАВ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</dc:creator>
  <dc:description/>
  <dc:language>en-US</dc:language>
  <cp:lastModifiedBy>Александр</cp:lastModifiedBy>
  <dcterms:modified xsi:type="dcterms:W3CDTF">2011-12-01T18:00:13Z</dcterms:modified>
  <cp:revision>6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