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E13-558E-4792-9430-C928B1E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73A-16B7-4B25-AB76-FFB7C38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4A1-117D-417E-81B0-63C18DD9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F11-6AEA-4F3D-8C34-F53384F9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1F4-88BC-4B46-81EE-81F4C73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D1C-A3E6-4C46-9667-D72CEA3C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17D-0CF1-4814-A6AA-898E399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E26-D546-4E43-B61E-F2BC1E5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145-ECB1-4DF1-9513-692C2F48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D25-11C0-4A6D-B329-C474AD8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EB8-4546-4F03-9AC5-F4C2A77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5A0-23F6-45F9-A3D9-645C4B2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9488-0EBB-43E7-A0E3-10173C7CD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5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25800" y="2284200"/>
            <a:ext cx="6866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ия электролитической диссоци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066680" y="471600"/>
            <a:ext cx="70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762120" y="1447920"/>
            <a:ext cx="763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31160" y="58672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08520" y="304920"/>
            <a:ext cx="80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ь электролитической диссоциации. Сильные и слабые электрол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762120" y="1066680"/>
            <a:ext cx="7543800" cy="2941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епень электролитической диссоци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исло, показывающее, какая часть молекул распалась на ион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 число молекул, распавшихся на ионы / общее число растворенных молеку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790560" y="1143000"/>
            <a:ext cx="835344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епень диссоциации (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висит о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роды растворяемого вещества и растворител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и раствора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разбавлении раствора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мператур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емператур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диссоци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ак правило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08520" y="304920"/>
            <a:ext cx="80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ь электролитической диссоциации. Сильные и слабые электрол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38080" y="1447920"/>
            <a:ext cx="68580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льные электролиты (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→ 1 или 10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сильные кисл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) щелоч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07800" y="304920"/>
            <a:ext cx="80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ь электролитической диссоциации. Сильные и слабые электрол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38080" y="1371600"/>
            <a:ext cx="792504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лабые электролиты  (</a:t>
            </a:r>
            <a:r>
              <a:rPr b="1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→ 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абы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CN, HF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нерастворимые в воде осн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) гидроксид аммони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07800" y="304920"/>
            <a:ext cx="80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ь электролитической диссоциации. Сильные и слабые электрол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4967280" y="4114800"/>
            <a:ext cx="313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) = 1,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05600" y="4114800"/>
            <a:ext cx="2782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) = 1,8 ·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08520" y="228600"/>
            <a:ext cx="80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Степень электролитической диссоциации. Сильные и слабые электрол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33520" y="1066680"/>
            <a:ext cx="7696080" cy="265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нстанта диссоциации (К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рактеризует способность слабого электролита диссоциировать на  ион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м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ем легче электролит распадается на ион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09480" y="2514600"/>
            <a:ext cx="78678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электролитической диссоциаци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иль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кислот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l ↔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↔ 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лаб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ногоосновные кислоты диссоциируют ступенчат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09480" y="914400"/>
            <a:ext cx="7696440" cy="140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слот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лектролиты, которые при диссоциации образуют только один вид катионов – катионы водорода 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914400" y="2666880"/>
            <a:ext cx="716292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диссоциации с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иль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снований (щелоче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H ↔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↔ B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O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лабы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кислотные основания диссоциируют ступенчат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O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&gt;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O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↔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838080" y="914400"/>
            <a:ext cx="7467840" cy="1550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а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электролиты, которые при диссоциации образуют только один вид анионов  - гидроксид-ионы О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533520" y="3809880"/>
            <a:ext cx="828036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электролитической диссоциаци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ез учета ступенчатого характе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2H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Z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↔  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Zn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↔  Z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2OH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типу кислоты                                                     по типу осн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0880" y="990720"/>
            <a:ext cx="8305920" cy="2522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мфотерные гидроксид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слабые электроли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торые при диссоциации образуют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дновременно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тионы водорода 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гидроксид-анионы О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.е. диссоциируют по типу кислоты и по типу осн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609480" y="3733920"/>
            <a:ext cx="8153640" cy="15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↔ 2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↔ 2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33520" y="1143000"/>
            <a:ext cx="7924680" cy="2522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редние (нормальные) со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ильные электроли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ующие при диссоциации катионы металла и анионы кислотного остат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09480" y="3657600"/>
            <a:ext cx="7832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↔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α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↔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α &lt;&lt;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3520" y="1143000"/>
            <a:ext cx="7619760" cy="2036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слые со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ильные электролиты, диссоциирующи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катион металла и сложный анион, в состав которого входят атомы водорода и кислотный остато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08520" y="30492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Теория электролитической диссоци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072080" y="1218960"/>
            <a:ext cx="2911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следу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на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>
            <a:hlinkClick r:id="rId1" action="ppaction://hlinksldjump"/>
          </p:cNvPr>
          <p:cNvSpPr/>
          <p:nvPr/>
        </p:nvSpPr>
        <p:spPr>
          <a:xfrm>
            <a:off x="996120" y="2438280"/>
            <a:ext cx="771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ложения теории электролитической диссоци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>
            <a:hlinkClick r:id="rId2" action="ppaction://hlinksldjump"/>
          </p:cNvPr>
          <p:cNvSpPr/>
          <p:nvPr/>
        </p:nvSpPr>
        <p:spPr>
          <a:xfrm>
            <a:off x="993960" y="2971800"/>
            <a:ext cx="6020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ы, основания и соли с точки зрения ТЭД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>
            <a:hlinkClick r:id="rId3" action="ppaction://hlinksldjump"/>
          </p:cNvPr>
          <p:cNvSpPr/>
          <p:nvPr/>
        </p:nvSpPr>
        <p:spPr>
          <a:xfrm>
            <a:off x="994320" y="3657600"/>
            <a:ext cx="640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Условия течения реакций ионного обмена до конц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4" action="ppaction://hlinksldjump"/>
          </p:cNvPr>
          <p:cNvSpPr/>
          <p:nvPr/>
        </p:nvSpPr>
        <p:spPr>
          <a:xfrm>
            <a:off x="1068840" y="4343400"/>
            <a:ext cx="25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784872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3520" y="990720"/>
            <a:ext cx="7619760" cy="2036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ые со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лектролиты, которые при диссоциации образуют анионы кислотного остатка и сложные катионы, состоящие из атомов металла и гидроксогрупп ОН-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85800" y="3352680"/>
            <a:ext cx="5715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(OH)Cl ↔ Fe(OH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α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(OH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↔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H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(α &lt;&lt;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29680" y="3049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Кислоты, основания и соли с точки зрения ТЭ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232200" y="2286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Условия течения реакций ионного обмена до ко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09480" y="1676520"/>
            <a:ext cx="7620120" cy="143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кции, протекающие между ионам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онными реакция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6"/>
          <p:cNvSpPr/>
          <p:nvPr/>
        </p:nvSpPr>
        <p:spPr>
          <a:xfrm>
            <a:off x="838080" y="2514600"/>
            <a:ext cx="7620120" cy="834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 малорастворимых веществ (осадки ↓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838080" y="3505320"/>
            <a:ext cx="7620120" cy="834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 газообразных или летучих веществ (↑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838080" y="4724280"/>
            <a:ext cx="7620120" cy="1324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 малодиссоциирующих веществ -  слабых электролитов (например, воды Н</a:t>
            </a:r>
            <a:r>
              <a:rPr b="0" lang="ru-RU" sz="2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914400" y="762120"/>
            <a:ext cx="7559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течения реакций обмена между сильными электролитами  в водных растворах  до конц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232200" y="2286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Условия течения реакций ионного обмена до ко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990720" y="1219320"/>
            <a:ext cx="765972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акции с образованием малорастворимых вещест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выпадающих в осад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лекулярное уравн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↓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ионное уравнени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→ AgCl↓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ное ионное уравнени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32200" y="2286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Условия течения реакций ионного обмена до ко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7924680" y="61722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981000" y="1143000"/>
            <a:ext cx="81630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. Реакции, протекающие  с образованием газообразных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или летучих веще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лекулярное уравн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→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↑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ионное уравн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→ 2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↑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ное ионное уравн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↑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32200" y="2286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Условия течения реакций ионного обмена до ко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7924680" y="61722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832680" y="1295280"/>
            <a:ext cx="7715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Реакции, идущие с образованием малодиссоциирующих веществ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абых электрол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838080" y="2286000"/>
            <a:ext cx="769644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лекулярное уравнени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H + HCl → NaCl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ионное  уравнени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→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ное ионное уравн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32200" y="2286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Условия течения реакций ионного обмена до кон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457200" y="1447920"/>
            <a:ext cx="820908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исходными веществами реакций обме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ются сильные электролиты, которые при взаимодействии не образуют малорастворимых или малодиссоциирующих вещест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о такие реакции не протекаю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NaCl + Ca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≠ 2Na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 Ca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70160" y="450720"/>
            <a:ext cx="293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Times New Roman"/>
              </a:rPr>
              <a:t>Обратите внимание!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384120" y="3049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социация воды.  Водородны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533520" y="1066680"/>
            <a:ext cx="820872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2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 [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= [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ль/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= [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∙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изведение концентрац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онов водорода 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гидроксид-ионов О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онным произведением воды (Кн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07800" y="2286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социация воды.  Водородны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685800" y="1600200"/>
            <a:ext cx="7696080" cy="2757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одородный показатель р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- это отрицательный десятичный логарифм  концентрации ионов водорода 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Н =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[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646200" y="1676520"/>
            <a:ext cx="849780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[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оль/л , то рН =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а раствора нейтраль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[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] &lt;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оль/л, то рН &gt;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а раствора щелоч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[Н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] &gt; 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оль/л, то рН &lt;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а раствор кисл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07800" y="2286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социация воды.  Водородны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066680" y="2286000"/>
            <a:ext cx="7848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исать уравнения диссоциации кислот, оснований и соле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ять реакции ионного обмена, идущие до конц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ять уравнения реакций в  молекулярном и ионном вид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072080" y="1218960"/>
            <a:ext cx="2911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следу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08520" y="30492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Теория электролитической диссоци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7848720" y="6095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66760" y="222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4000" y="1268280"/>
          <a:ext cx="8373960" cy="5113440"/>
        </p:xfrm>
        <a:graphic>
          <a:graphicData uri="http://schemas.openxmlformats.org/drawingml/2006/table">
            <a:tbl>
              <a:tblPr/>
              <a:tblGrid>
                <a:gridCol w="1885680"/>
                <a:gridCol w="2301840"/>
                <a:gridCol w="1892520"/>
                <a:gridCol w="2293920"/>
              </a:tblGrid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к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йтральная    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 =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лая 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елочная 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му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лфтал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илоран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Text Box 30"/>
          <p:cNvSpPr/>
          <p:nvPr/>
        </p:nvSpPr>
        <p:spPr>
          <a:xfrm>
            <a:off x="1287000" y="685800"/>
            <a:ext cx="63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е  цвета  индикаторов  в  различных  сред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1"/>
          <p:cNvSpPr/>
          <p:nvPr/>
        </p:nvSpPr>
        <p:spPr>
          <a:xfrm>
            <a:off x="2590920" y="2514600"/>
            <a:ext cx="1280880" cy="1096920"/>
          </a:xfrm>
          <a:prstGeom prst="octagon">
            <a:avLst>
              <a:gd name="adj" fmla="val 2928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32"/>
          <p:cNvSpPr/>
          <p:nvPr/>
        </p:nvSpPr>
        <p:spPr>
          <a:xfrm>
            <a:off x="4876920" y="2514600"/>
            <a:ext cx="1279440" cy="1096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33"/>
          <p:cNvSpPr/>
          <p:nvPr/>
        </p:nvSpPr>
        <p:spPr>
          <a:xfrm>
            <a:off x="6934320" y="2514600"/>
            <a:ext cx="1279440" cy="10969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2666880" y="3962520"/>
            <a:ext cx="1281240" cy="1096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4876920" y="3962520"/>
            <a:ext cx="1280880" cy="1096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7086600" y="3962520"/>
            <a:ext cx="1279440" cy="1096920"/>
          </a:xfrm>
          <a:prstGeom prst="octagon">
            <a:avLst>
              <a:gd name="adj" fmla="val 2928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2666880" y="5181480"/>
            <a:ext cx="1281240" cy="109692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4952880" y="5181480"/>
            <a:ext cx="1279800" cy="1096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7086600" y="5181480"/>
            <a:ext cx="1279440" cy="10969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1"/>
          <p:cNvSpPr/>
          <p:nvPr/>
        </p:nvSpPr>
        <p:spPr>
          <a:xfrm>
            <a:off x="155520" y="2286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социация воды.  Водородны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8880" y="30492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ые положения теории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10040" cy="2362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3352680" y="914400"/>
            <a:ext cx="464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радей Май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X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91 – 25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II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глийский физик и хим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й половине 19 в. ввел поняти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 электролитах и неэлектролит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4"/>
          <p:cNvGrpSpPr/>
          <p:nvPr/>
        </p:nvGrpSpPr>
        <p:grpSpPr>
          <a:xfrm>
            <a:off x="304920" y="2590920"/>
            <a:ext cx="8604000" cy="3592080"/>
            <a:chOff x="304920" y="2590920"/>
            <a:chExt cx="8604000" cy="3592080"/>
          </a:xfrm>
        </p:grpSpPr>
        <p:sp>
          <p:nvSpPr>
            <p:cNvPr id="60" name="Text Box 8"/>
            <p:cNvSpPr/>
            <p:nvPr/>
          </p:nvSpPr>
          <p:spPr>
            <a:xfrm>
              <a:off x="3200400" y="2590920"/>
              <a:ext cx="2808360" cy="9471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щест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1600200" y="342900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304920" y="3962520"/>
              <a:ext cx="3959280" cy="2220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лектроли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Вещества, водные растворы или расплавы которых проводят электрических то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4876920" y="3962520"/>
              <a:ext cx="4032000" cy="2153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электроли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Вещества, водные растворы или расплавы которых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</a:rPr>
                <a:t>не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проводят электрический то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>
              <a:off x="1600200" y="342900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>
              <a:off x="7391520" y="3429000"/>
              <a:ext cx="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692360" y="2276640"/>
            <a:ext cx="5257800" cy="187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ип химической связ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онная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валентная сильно поляр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627280" y="765000"/>
            <a:ext cx="3313080" cy="127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211640" y="1773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692360" y="4581360"/>
            <a:ext cx="5317920" cy="1606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ли, кислоты, осн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р: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Cl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267080" y="41911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8880" y="30492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ые положения теории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611440" y="838080"/>
            <a:ext cx="3313080" cy="1123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67080" y="1752480"/>
            <a:ext cx="1800" cy="44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676520" y="2209680"/>
            <a:ext cx="5688000" cy="187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ип химической связ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валентная неполярная 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валентная малополяр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43400" y="41148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676520" y="4495680"/>
            <a:ext cx="5688000" cy="1936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ислоро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зо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доро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ие органические вещества – спир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юкоза, сахароза, бензол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32200" y="15228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ые положения теории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9584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657600" y="1219320"/>
            <a:ext cx="57150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анте  Август  Аррениус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859 – 1927 г.г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ведский физико-химик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 теории электролитическ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ссоциации (1887 г.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1903 г. награжден Нобелевской преми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232560" y="15228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ые положения теории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2"/>
          <p:cNvSpPr/>
          <p:nvPr/>
        </p:nvSpPr>
        <p:spPr>
          <a:xfrm rot="16200000">
            <a:off x="3733560" y="838080"/>
            <a:ext cx="876240" cy="266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16"/>
          <p:cNvGrpSpPr/>
          <p:nvPr/>
        </p:nvGrpSpPr>
        <p:grpSpPr>
          <a:xfrm>
            <a:off x="1066680" y="683640"/>
            <a:ext cx="7441920" cy="5154840"/>
            <a:chOff x="1066680" y="683640"/>
            <a:chExt cx="7441920" cy="5154840"/>
          </a:xfrm>
        </p:grpSpPr>
        <p:grpSp>
          <p:nvGrpSpPr>
            <p:cNvPr id="83" name="Group 7"/>
            <p:cNvGrpSpPr/>
            <p:nvPr/>
          </p:nvGrpSpPr>
          <p:grpSpPr>
            <a:xfrm>
              <a:off x="1981080" y="1371600"/>
              <a:ext cx="609840" cy="609480"/>
              <a:chOff x="1981080" y="1371600"/>
              <a:chExt cx="609840" cy="609480"/>
            </a:xfrm>
          </p:grpSpPr>
          <p:sp>
            <p:nvSpPr>
              <p:cNvPr id="84" name="Oval 5"/>
              <p:cNvSpPr/>
              <p:nvPr/>
            </p:nvSpPr>
            <p:spPr>
              <a:xfrm>
                <a:off x="1981080" y="13716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6"/>
              <p:cNvSpPr/>
              <p:nvPr/>
            </p:nvSpPr>
            <p:spPr>
              <a:xfrm>
                <a:off x="2046240" y="14860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"/>
            <p:cNvGrpSpPr/>
            <p:nvPr/>
          </p:nvGrpSpPr>
          <p:grpSpPr>
            <a:xfrm>
              <a:off x="1981080" y="4114800"/>
              <a:ext cx="609840" cy="609480"/>
              <a:chOff x="1981080" y="4114800"/>
              <a:chExt cx="609840" cy="609480"/>
            </a:xfrm>
          </p:grpSpPr>
          <p:sp>
            <p:nvSpPr>
              <p:cNvPr id="87" name="Oval 9"/>
              <p:cNvSpPr/>
              <p:nvPr/>
            </p:nvSpPr>
            <p:spPr>
              <a:xfrm>
                <a:off x="1981080" y="41148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10"/>
              <p:cNvSpPr/>
              <p:nvPr/>
            </p:nvSpPr>
            <p:spPr>
              <a:xfrm>
                <a:off x="2048760" y="42292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11"/>
            <p:cNvGrpSpPr/>
            <p:nvPr/>
          </p:nvGrpSpPr>
          <p:grpSpPr>
            <a:xfrm>
              <a:off x="3809880" y="4114800"/>
              <a:ext cx="609840" cy="609480"/>
              <a:chOff x="3809880" y="4114800"/>
              <a:chExt cx="609840" cy="609480"/>
            </a:xfrm>
          </p:grpSpPr>
          <p:sp>
            <p:nvSpPr>
              <p:cNvPr id="90" name="Oval 12"/>
              <p:cNvSpPr/>
              <p:nvPr/>
            </p:nvSpPr>
            <p:spPr>
              <a:xfrm>
                <a:off x="3809880" y="41148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877560" y="42292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Group 14"/>
            <p:cNvGrpSpPr/>
            <p:nvPr/>
          </p:nvGrpSpPr>
          <p:grpSpPr>
            <a:xfrm>
              <a:off x="1066680" y="1371600"/>
              <a:ext cx="609840" cy="609480"/>
              <a:chOff x="1066680" y="1371600"/>
              <a:chExt cx="609840" cy="609480"/>
            </a:xfrm>
          </p:grpSpPr>
          <p:sp>
            <p:nvSpPr>
              <p:cNvPr id="93" name="Oval 15"/>
              <p:cNvSpPr/>
              <p:nvPr/>
            </p:nvSpPr>
            <p:spPr>
              <a:xfrm>
                <a:off x="1066680" y="13716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16"/>
              <p:cNvSpPr/>
              <p:nvPr/>
            </p:nvSpPr>
            <p:spPr>
              <a:xfrm>
                <a:off x="1134360" y="14860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7"/>
            <p:cNvGrpSpPr/>
            <p:nvPr/>
          </p:nvGrpSpPr>
          <p:grpSpPr>
            <a:xfrm>
              <a:off x="2895480" y="3200400"/>
              <a:ext cx="609840" cy="609480"/>
              <a:chOff x="2895480" y="3200400"/>
              <a:chExt cx="609840" cy="609480"/>
            </a:xfrm>
          </p:grpSpPr>
          <p:sp>
            <p:nvSpPr>
              <p:cNvPr id="96" name="Oval 18"/>
              <p:cNvSpPr/>
              <p:nvPr/>
            </p:nvSpPr>
            <p:spPr>
              <a:xfrm>
                <a:off x="2895480" y="32004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9"/>
              <p:cNvSpPr/>
              <p:nvPr/>
            </p:nvSpPr>
            <p:spPr>
              <a:xfrm>
                <a:off x="2963160" y="33148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20"/>
            <p:cNvGrpSpPr/>
            <p:nvPr/>
          </p:nvGrpSpPr>
          <p:grpSpPr>
            <a:xfrm>
              <a:off x="2895480" y="1371600"/>
              <a:ext cx="609840" cy="609480"/>
              <a:chOff x="2895480" y="1371600"/>
              <a:chExt cx="609840" cy="609480"/>
            </a:xfrm>
          </p:grpSpPr>
          <p:sp>
            <p:nvSpPr>
              <p:cNvPr id="99" name="Oval 21"/>
              <p:cNvSpPr/>
              <p:nvPr/>
            </p:nvSpPr>
            <p:spPr>
              <a:xfrm>
                <a:off x="2895480" y="13716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2"/>
              <p:cNvSpPr/>
              <p:nvPr/>
            </p:nvSpPr>
            <p:spPr>
              <a:xfrm>
                <a:off x="2963160" y="14860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23"/>
            <p:cNvGrpSpPr/>
            <p:nvPr/>
          </p:nvGrpSpPr>
          <p:grpSpPr>
            <a:xfrm>
              <a:off x="1066680" y="3200400"/>
              <a:ext cx="609840" cy="609480"/>
              <a:chOff x="1066680" y="3200400"/>
              <a:chExt cx="609840" cy="609480"/>
            </a:xfrm>
          </p:grpSpPr>
          <p:sp>
            <p:nvSpPr>
              <p:cNvPr id="102" name="Oval 24"/>
              <p:cNvSpPr/>
              <p:nvPr/>
            </p:nvSpPr>
            <p:spPr>
              <a:xfrm>
                <a:off x="1066680" y="32004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134360" y="33148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26"/>
            <p:cNvGrpSpPr/>
            <p:nvPr/>
          </p:nvGrpSpPr>
          <p:grpSpPr>
            <a:xfrm>
              <a:off x="1981080" y="2286000"/>
              <a:ext cx="609840" cy="609480"/>
              <a:chOff x="1981080" y="2286000"/>
              <a:chExt cx="609840" cy="609480"/>
            </a:xfrm>
          </p:grpSpPr>
          <p:sp>
            <p:nvSpPr>
              <p:cNvPr id="105" name="Oval 27"/>
              <p:cNvSpPr/>
              <p:nvPr/>
            </p:nvSpPr>
            <p:spPr>
              <a:xfrm>
                <a:off x="1981080" y="22860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8"/>
              <p:cNvSpPr/>
              <p:nvPr/>
            </p:nvSpPr>
            <p:spPr>
              <a:xfrm>
                <a:off x="2048760" y="24004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3809880" y="1371600"/>
              <a:ext cx="609840" cy="609480"/>
              <a:chOff x="3809880" y="1371600"/>
              <a:chExt cx="609840" cy="609480"/>
            </a:xfrm>
          </p:grpSpPr>
          <p:sp>
            <p:nvSpPr>
              <p:cNvPr id="108" name="Oval 30"/>
              <p:cNvSpPr/>
              <p:nvPr/>
            </p:nvSpPr>
            <p:spPr>
              <a:xfrm>
                <a:off x="3809880" y="13716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1"/>
              <p:cNvSpPr/>
              <p:nvPr/>
            </p:nvSpPr>
            <p:spPr>
              <a:xfrm>
                <a:off x="3875040" y="14860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Line 32"/>
            <p:cNvSpPr/>
            <p:nvPr/>
          </p:nvSpPr>
          <p:spPr>
            <a:xfrm>
              <a:off x="1676520" y="1676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3"/>
            <p:cNvSpPr/>
            <p:nvPr/>
          </p:nvSpPr>
          <p:spPr>
            <a:xfrm>
              <a:off x="2590920" y="1676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4"/>
            <p:cNvSpPr/>
            <p:nvPr/>
          </p:nvSpPr>
          <p:spPr>
            <a:xfrm>
              <a:off x="3505320" y="1676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35"/>
            <p:cNvSpPr/>
            <p:nvPr/>
          </p:nvSpPr>
          <p:spPr>
            <a:xfrm>
              <a:off x="22860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6"/>
            <p:cNvSpPr/>
            <p:nvPr/>
          </p:nvSpPr>
          <p:spPr>
            <a:xfrm>
              <a:off x="32004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7"/>
            <p:cNvSpPr/>
            <p:nvPr/>
          </p:nvSpPr>
          <p:spPr>
            <a:xfrm>
              <a:off x="13716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38"/>
            <p:cNvGrpSpPr/>
            <p:nvPr/>
          </p:nvGrpSpPr>
          <p:grpSpPr>
            <a:xfrm>
              <a:off x="2895480" y="2286000"/>
              <a:ext cx="609840" cy="609480"/>
              <a:chOff x="2895480" y="2286000"/>
              <a:chExt cx="609840" cy="609480"/>
            </a:xfrm>
          </p:grpSpPr>
          <p:sp>
            <p:nvSpPr>
              <p:cNvPr id="117" name="Oval 39"/>
              <p:cNvSpPr/>
              <p:nvPr/>
            </p:nvSpPr>
            <p:spPr>
              <a:xfrm>
                <a:off x="2895480" y="22860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40"/>
              <p:cNvSpPr/>
              <p:nvPr/>
            </p:nvSpPr>
            <p:spPr>
              <a:xfrm>
                <a:off x="2960640" y="2400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1"/>
            <p:cNvGrpSpPr/>
            <p:nvPr/>
          </p:nvGrpSpPr>
          <p:grpSpPr>
            <a:xfrm>
              <a:off x="1066680" y="2286000"/>
              <a:ext cx="609840" cy="609480"/>
              <a:chOff x="1066680" y="2286000"/>
              <a:chExt cx="609840" cy="609480"/>
            </a:xfrm>
          </p:grpSpPr>
          <p:sp>
            <p:nvSpPr>
              <p:cNvPr id="120" name="Oval 42"/>
              <p:cNvSpPr/>
              <p:nvPr/>
            </p:nvSpPr>
            <p:spPr>
              <a:xfrm>
                <a:off x="1066680" y="22860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43"/>
              <p:cNvSpPr/>
              <p:nvPr/>
            </p:nvSpPr>
            <p:spPr>
              <a:xfrm>
                <a:off x="1131840" y="2400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Line 44"/>
            <p:cNvSpPr/>
            <p:nvPr/>
          </p:nvSpPr>
          <p:spPr>
            <a:xfrm>
              <a:off x="16765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25909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35053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>
              <a:off x="13716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>
              <a:off x="22860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>
              <a:off x="32004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0"/>
            <p:cNvGrpSpPr/>
            <p:nvPr/>
          </p:nvGrpSpPr>
          <p:grpSpPr>
            <a:xfrm>
              <a:off x="1981080" y="3200400"/>
              <a:ext cx="609840" cy="609480"/>
              <a:chOff x="1981080" y="3200400"/>
              <a:chExt cx="609840" cy="609480"/>
            </a:xfrm>
          </p:grpSpPr>
          <p:sp>
            <p:nvSpPr>
              <p:cNvPr id="129" name="Oval 51"/>
              <p:cNvSpPr/>
              <p:nvPr/>
            </p:nvSpPr>
            <p:spPr>
              <a:xfrm>
                <a:off x="1981080" y="32004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52"/>
              <p:cNvSpPr/>
              <p:nvPr/>
            </p:nvSpPr>
            <p:spPr>
              <a:xfrm>
                <a:off x="2046240" y="33148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Line 53"/>
            <p:cNvSpPr/>
            <p:nvPr/>
          </p:nvSpPr>
          <p:spPr>
            <a:xfrm>
              <a:off x="137160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228600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3200400" y="3809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56"/>
            <p:cNvGrpSpPr/>
            <p:nvPr/>
          </p:nvGrpSpPr>
          <p:grpSpPr>
            <a:xfrm>
              <a:off x="1066680" y="4114800"/>
              <a:ext cx="609840" cy="609480"/>
              <a:chOff x="1066680" y="4114800"/>
              <a:chExt cx="609840" cy="609480"/>
            </a:xfrm>
          </p:grpSpPr>
          <p:sp>
            <p:nvSpPr>
              <p:cNvPr id="135" name="Oval 57"/>
              <p:cNvSpPr/>
              <p:nvPr/>
            </p:nvSpPr>
            <p:spPr>
              <a:xfrm>
                <a:off x="1066680" y="41148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58"/>
              <p:cNvSpPr/>
              <p:nvPr/>
            </p:nvSpPr>
            <p:spPr>
              <a:xfrm>
                <a:off x="1131840" y="42292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9"/>
            <p:cNvGrpSpPr/>
            <p:nvPr/>
          </p:nvGrpSpPr>
          <p:grpSpPr>
            <a:xfrm>
              <a:off x="2895480" y="4114800"/>
              <a:ext cx="609840" cy="609480"/>
              <a:chOff x="2895480" y="4114800"/>
              <a:chExt cx="609840" cy="609480"/>
            </a:xfrm>
          </p:grpSpPr>
          <p:sp>
            <p:nvSpPr>
              <p:cNvPr id="138" name="Oval 60"/>
              <p:cNvSpPr/>
              <p:nvPr/>
            </p:nvSpPr>
            <p:spPr>
              <a:xfrm>
                <a:off x="2895480" y="41148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61"/>
              <p:cNvSpPr/>
              <p:nvPr/>
            </p:nvSpPr>
            <p:spPr>
              <a:xfrm>
                <a:off x="2960640" y="42292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62"/>
            <p:cNvSpPr/>
            <p:nvPr/>
          </p:nvSpPr>
          <p:spPr>
            <a:xfrm>
              <a:off x="1676520" y="3505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63"/>
            <p:cNvSpPr/>
            <p:nvPr/>
          </p:nvSpPr>
          <p:spPr>
            <a:xfrm>
              <a:off x="2590920" y="3505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4"/>
            <p:cNvSpPr/>
            <p:nvPr/>
          </p:nvSpPr>
          <p:spPr>
            <a:xfrm>
              <a:off x="3505320" y="3505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65"/>
            <p:cNvSpPr/>
            <p:nvPr/>
          </p:nvSpPr>
          <p:spPr>
            <a:xfrm>
              <a:off x="259092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66"/>
            <p:cNvSpPr/>
            <p:nvPr/>
          </p:nvSpPr>
          <p:spPr>
            <a:xfrm>
              <a:off x="167652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67"/>
            <p:cNvSpPr/>
            <p:nvPr/>
          </p:nvSpPr>
          <p:spPr>
            <a:xfrm>
              <a:off x="350532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68"/>
            <p:cNvGrpSpPr/>
            <p:nvPr/>
          </p:nvGrpSpPr>
          <p:grpSpPr>
            <a:xfrm>
              <a:off x="3809880" y="3200400"/>
              <a:ext cx="609840" cy="609480"/>
              <a:chOff x="3809880" y="3200400"/>
              <a:chExt cx="609840" cy="609480"/>
            </a:xfrm>
          </p:grpSpPr>
          <p:sp>
            <p:nvSpPr>
              <p:cNvPr id="147" name="Oval 69"/>
              <p:cNvSpPr/>
              <p:nvPr/>
            </p:nvSpPr>
            <p:spPr>
              <a:xfrm>
                <a:off x="3809880" y="32004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 Box 70"/>
              <p:cNvSpPr/>
              <p:nvPr/>
            </p:nvSpPr>
            <p:spPr>
              <a:xfrm>
                <a:off x="3875040" y="33148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71"/>
            <p:cNvGrpSpPr/>
            <p:nvPr/>
          </p:nvGrpSpPr>
          <p:grpSpPr>
            <a:xfrm>
              <a:off x="4952880" y="2286000"/>
              <a:ext cx="609840" cy="609480"/>
              <a:chOff x="4952880" y="2286000"/>
              <a:chExt cx="609840" cy="609480"/>
            </a:xfrm>
          </p:grpSpPr>
          <p:sp>
            <p:nvSpPr>
              <p:cNvPr id="150" name="Oval 72"/>
              <p:cNvSpPr/>
              <p:nvPr/>
            </p:nvSpPr>
            <p:spPr>
              <a:xfrm>
                <a:off x="4952880" y="228600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73"/>
              <p:cNvSpPr/>
              <p:nvPr/>
            </p:nvSpPr>
            <p:spPr>
              <a:xfrm>
                <a:off x="5020560" y="24004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Oval 85"/>
            <p:cNvSpPr/>
            <p:nvPr/>
          </p:nvSpPr>
          <p:spPr>
            <a:xfrm rot="10800000">
              <a:off x="4419720" y="4266720"/>
              <a:ext cx="838080" cy="2286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86"/>
            <p:cNvSpPr/>
            <p:nvPr/>
          </p:nvSpPr>
          <p:spPr>
            <a:xfrm rot="16200000">
              <a:off x="3676680" y="5009760"/>
              <a:ext cx="8384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87"/>
            <p:cNvSpPr/>
            <p:nvPr/>
          </p:nvSpPr>
          <p:spPr>
            <a:xfrm rot="12961800">
              <a:off x="4222440" y="4753080"/>
              <a:ext cx="838080" cy="280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91"/>
            <p:cNvSpPr/>
            <p:nvPr/>
          </p:nvSpPr>
          <p:spPr>
            <a:xfrm rot="18175800">
              <a:off x="4190760" y="9903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92"/>
            <p:cNvSpPr/>
            <p:nvPr/>
          </p:nvSpPr>
          <p:spPr>
            <a:xfrm rot="20817000">
              <a:off x="4419720" y="14475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93"/>
            <p:cNvSpPr/>
            <p:nvPr/>
          </p:nvSpPr>
          <p:spPr>
            <a:xfrm rot="2032200">
              <a:off x="4266720" y="198108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94"/>
            <p:cNvSpPr/>
            <p:nvPr/>
          </p:nvSpPr>
          <p:spPr>
            <a:xfrm rot="7123200">
              <a:off x="5104800" y="175248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95"/>
            <p:cNvSpPr/>
            <p:nvPr/>
          </p:nvSpPr>
          <p:spPr>
            <a:xfrm rot="14401800">
              <a:off x="5257800" y="30477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96"/>
            <p:cNvSpPr/>
            <p:nvPr/>
          </p:nvSpPr>
          <p:spPr>
            <a:xfrm rot="19273800">
              <a:off x="4266720" y="29714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 rot="1241400">
              <a:off x="4343040" y="365760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98"/>
            <p:cNvSpPr/>
            <p:nvPr/>
          </p:nvSpPr>
          <p:spPr>
            <a:xfrm flipV="1">
              <a:off x="5638680" y="19807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5486400" y="388620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115"/>
            <p:cNvGrpSpPr/>
            <p:nvPr/>
          </p:nvGrpSpPr>
          <p:grpSpPr>
            <a:xfrm>
              <a:off x="6426360" y="3562560"/>
              <a:ext cx="2082240" cy="2275920"/>
              <a:chOff x="6426360" y="3562560"/>
              <a:chExt cx="2082240" cy="2275920"/>
            </a:xfrm>
          </p:grpSpPr>
          <p:grpSp>
            <p:nvGrpSpPr>
              <p:cNvPr id="165" name="Group 77"/>
              <p:cNvGrpSpPr/>
              <p:nvPr/>
            </p:nvGrpSpPr>
            <p:grpSpPr>
              <a:xfrm>
                <a:off x="7086600" y="4419720"/>
                <a:ext cx="609480" cy="609480"/>
                <a:chOff x="7086600" y="4419720"/>
                <a:chExt cx="609480" cy="609480"/>
              </a:xfrm>
            </p:grpSpPr>
            <p:sp>
              <p:nvSpPr>
                <p:cNvPr id="166" name="Oval 78"/>
                <p:cNvSpPr/>
                <p:nvPr/>
              </p:nvSpPr>
              <p:spPr>
                <a:xfrm>
                  <a:off x="7086600" y="4419720"/>
                  <a:ext cx="609480" cy="609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Text Box 79"/>
                <p:cNvSpPr/>
                <p:nvPr/>
              </p:nvSpPr>
              <p:spPr>
                <a:xfrm>
                  <a:off x="7151040" y="4534200"/>
                  <a:ext cx="44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l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Oval 100"/>
              <p:cNvSpPr/>
              <p:nvPr/>
            </p:nvSpPr>
            <p:spPr>
              <a:xfrm rot="16933800">
                <a:off x="7086600" y="3885840"/>
                <a:ext cx="876600" cy="2667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01"/>
              <p:cNvSpPr/>
              <p:nvPr/>
            </p:nvSpPr>
            <p:spPr>
              <a:xfrm rot="19951200">
                <a:off x="7620120" y="4343040"/>
                <a:ext cx="876240" cy="2667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02"/>
              <p:cNvSpPr/>
              <p:nvPr/>
            </p:nvSpPr>
            <p:spPr>
              <a:xfrm rot="13362000">
                <a:off x="6400440" y="4114080"/>
                <a:ext cx="876240" cy="2667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03"/>
              <p:cNvSpPr/>
              <p:nvPr/>
            </p:nvSpPr>
            <p:spPr>
              <a:xfrm rot="7161600">
                <a:off x="6552360" y="5257440"/>
                <a:ext cx="876600" cy="2667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04"/>
              <p:cNvSpPr/>
              <p:nvPr/>
            </p:nvSpPr>
            <p:spPr>
              <a:xfrm rot="2842800">
                <a:off x="7390800" y="5181480"/>
                <a:ext cx="876240" cy="2667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Oval 105"/>
            <p:cNvSpPr/>
            <p:nvPr/>
          </p:nvSpPr>
          <p:spPr>
            <a:xfrm rot="10004400">
              <a:off x="6248160" y="480024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14"/>
          <p:cNvGrpSpPr/>
          <p:nvPr/>
        </p:nvGrpSpPr>
        <p:grpSpPr>
          <a:xfrm>
            <a:off x="6096600" y="515880"/>
            <a:ext cx="2189520" cy="2341440"/>
            <a:chOff x="6096600" y="515880"/>
            <a:chExt cx="2189520" cy="2341440"/>
          </a:xfrm>
        </p:grpSpPr>
        <p:grpSp>
          <p:nvGrpSpPr>
            <p:cNvPr id="175" name="Group 74"/>
            <p:cNvGrpSpPr/>
            <p:nvPr/>
          </p:nvGrpSpPr>
          <p:grpSpPr>
            <a:xfrm>
              <a:off x="6858000" y="1371600"/>
              <a:ext cx="609480" cy="609480"/>
              <a:chOff x="6858000" y="1371600"/>
              <a:chExt cx="609480" cy="609480"/>
            </a:xfrm>
          </p:grpSpPr>
          <p:sp>
            <p:nvSpPr>
              <p:cNvPr id="176" name="Oval 75"/>
              <p:cNvSpPr/>
              <p:nvPr/>
            </p:nvSpPr>
            <p:spPr>
              <a:xfrm>
                <a:off x="6858000" y="137160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76"/>
              <p:cNvSpPr/>
              <p:nvPr/>
            </p:nvSpPr>
            <p:spPr>
              <a:xfrm>
                <a:off x="6924960" y="1486080"/>
                <a:ext cx="52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Oval 106"/>
            <p:cNvSpPr/>
            <p:nvPr/>
          </p:nvSpPr>
          <p:spPr>
            <a:xfrm rot="19291800">
              <a:off x="6095880" y="198072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07"/>
            <p:cNvSpPr/>
            <p:nvPr/>
          </p:nvSpPr>
          <p:spPr>
            <a:xfrm rot="8778000">
              <a:off x="7391160" y="114264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8"/>
            <p:cNvSpPr/>
            <p:nvPr/>
          </p:nvSpPr>
          <p:spPr>
            <a:xfrm rot="16200000">
              <a:off x="6781680" y="22856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09"/>
            <p:cNvSpPr/>
            <p:nvPr/>
          </p:nvSpPr>
          <p:spPr>
            <a:xfrm rot="2055000">
              <a:off x="6095520" y="106632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10"/>
            <p:cNvSpPr/>
            <p:nvPr/>
          </p:nvSpPr>
          <p:spPr>
            <a:xfrm rot="12125400">
              <a:off x="7391520" y="182808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11"/>
            <p:cNvSpPr/>
            <p:nvPr/>
          </p:nvSpPr>
          <p:spPr>
            <a:xfrm rot="6063000">
              <a:off x="6857640" y="83808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12"/>
          <p:cNvSpPr/>
          <p:nvPr/>
        </p:nvSpPr>
        <p:spPr>
          <a:xfrm>
            <a:off x="534240" y="594360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 диссоциации электролитов с ионной связ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7"/>
          <p:cNvSpPr/>
          <p:nvPr/>
        </p:nvSpPr>
        <p:spPr>
          <a:xfrm>
            <a:off x="308880" y="304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Механизм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8"/>
          <p:cNvSpPr/>
          <p:nvPr/>
        </p:nvSpPr>
        <p:spPr>
          <a:xfrm>
            <a:off x="228600" y="1981080"/>
            <a:ext cx="876240" cy="266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533880" y="594360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 диссоциации электролитов с полярной связ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58"/>
          <p:cNvGrpSpPr/>
          <p:nvPr/>
        </p:nvGrpSpPr>
        <p:grpSpPr>
          <a:xfrm>
            <a:off x="1110240" y="1046520"/>
            <a:ext cx="7246080" cy="4639320"/>
            <a:chOff x="1110240" y="1046520"/>
            <a:chExt cx="7246080" cy="4639320"/>
          </a:xfrm>
        </p:grpSpPr>
        <p:grpSp>
          <p:nvGrpSpPr>
            <p:cNvPr id="189" name="Group 6"/>
            <p:cNvGrpSpPr/>
            <p:nvPr/>
          </p:nvGrpSpPr>
          <p:grpSpPr>
            <a:xfrm>
              <a:off x="1143000" y="1905120"/>
              <a:ext cx="1904760" cy="457200"/>
              <a:chOff x="1143000" y="1905120"/>
              <a:chExt cx="1904760" cy="457200"/>
            </a:xfrm>
          </p:grpSpPr>
          <p:sp>
            <p:nvSpPr>
              <p:cNvPr id="190" name="Oval 4"/>
              <p:cNvSpPr/>
              <p:nvPr/>
            </p:nvSpPr>
            <p:spPr>
              <a:xfrm>
                <a:off x="1143000" y="1905120"/>
                <a:ext cx="190476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"/>
              <p:cNvSpPr/>
              <p:nvPr/>
            </p:nvSpPr>
            <p:spPr>
              <a:xfrm>
                <a:off x="1380960" y="1943280"/>
                <a:ext cx="137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       Cl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Oval 7"/>
            <p:cNvSpPr/>
            <p:nvPr/>
          </p:nvSpPr>
          <p:spPr>
            <a:xfrm rot="2284800">
              <a:off x="4723920" y="160020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9"/>
            <p:cNvSpPr/>
            <p:nvPr/>
          </p:nvSpPr>
          <p:spPr>
            <a:xfrm rot="17101200">
              <a:off x="914400" y="25905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10"/>
            <p:cNvSpPr/>
            <p:nvPr/>
          </p:nvSpPr>
          <p:spPr>
            <a:xfrm>
              <a:off x="3048120" y="198108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1"/>
            <p:cNvSpPr/>
            <p:nvPr/>
          </p:nvSpPr>
          <p:spPr>
            <a:xfrm rot="4358400">
              <a:off x="2361600" y="25905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 rot="17229600">
              <a:off x="2361960" y="13712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>
              <a:off x="419112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Picture 17" descr=""/>
            <p:cNvPicPr/>
            <p:nvPr/>
          </p:nvPicPr>
          <p:blipFill>
            <a:blip r:embed="rId1"/>
            <a:stretch/>
          </p:blipFill>
          <p:spPr>
            <a:xfrm>
              <a:off x="5562720" y="1828800"/>
              <a:ext cx="18669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22"/>
            <p:cNvSpPr/>
            <p:nvPr/>
          </p:nvSpPr>
          <p:spPr>
            <a:xfrm>
              <a:off x="5792760" y="198108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6707160" y="19810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 rot="1029000">
              <a:off x="7238520" y="236232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25"/>
            <p:cNvSpPr/>
            <p:nvPr/>
          </p:nvSpPr>
          <p:spPr>
            <a:xfrm rot="18386400">
              <a:off x="7162200" y="15998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26"/>
            <p:cNvSpPr/>
            <p:nvPr/>
          </p:nvSpPr>
          <p:spPr>
            <a:xfrm rot="16657200">
              <a:off x="6553080" y="137088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27"/>
            <p:cNvSpPr/>
            <p:nvPr/>
          </p:nvSpPr>
          <p:spPr>
            <a:xfrm rot="5020800">
              <a:off x="6629040" y="274320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28"/>
            <p:cNvSpPr/>
            <p:nvPr/>
          </p:nvSpPr>
          <p:spPr>
            <a:xfrm rot="4176600">
              <a:off x="990000" y="13712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29"/>
            <p:cNvSpPr/>
            <p:nvPr/>
          </p:nvSpPr>
          <p:spPr>
            <a:xfrm rot="4629000">
              <a:off x="5333400" y="13712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30"/>
            <p:cNvSpPr/>
            <p:nvPr/>
          </p:nvSpPr>
          <p:spPr>
            <a:xfrm>
              <a:off x="4648320" y="213372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31"/>
            <p:cNvSpPr/>
            <p:nvPr/>
          </p:nvSpPr>
          <p:spPr>
            <a:xfrm rot="17755200">
              <a:off x="5181480" y="266688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 flipH="1">
              <a:off x="3580920" y="274320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>
              <a:off x="6781680" y="3200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>
              <a:off x="6781680" y="2971800"/>
              <a:ext cx="1526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37"/>
            <p:cNvGrpSpPr/>
            <p:nvPr/>
          </p:nvGrpSpPr>
          <p:grpSpPr>
            <a:xfrm>
              <a:off x="1981080" y="4191120"/>
              <a:ext cx="609840" cy="609480"/>
              <a:chOff x="1981080" y="4191120"/>
              <a:chExt cx="609840" cy="609480"/>
            </a:xfrm>
          </p:grpSpPr>
          <p:sp>
            <p:nvSpPr>
              <p:cNvPr id="213" name="Oval 38"/>
              <p:cNvSpPr/>
              <p:nvPr/>
            </p:nvSpPr>
            <p:spPr>
              <a:xfrm>
                <a:off x="1981080" y="4191120"/>
                <a:ext cx="6098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39"/>
              <p:cNvSpPr/>
              <p:nvPr/>
            </p:nvSpPr>
            <p:spPr>
              <a:xfrm>
                <a:off x="2049120" y="4305600"/>
                <a:ext cx="41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Oval 40"/>
            <p:cNvSpPr/>
            <p:nvPr/>
          </p:nvSpPr>
          <p:spPr>
            <a:xfrm rot="19291800">
              <a:off x="1219320" y="480060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41"/>
            <p:cNvSpPr/>
            <p:nvPr/>
          </p:nvSpPr>
          <p:spPr>
            <a:xfrm rot="8778000">
              <a:off x="2514240" y="39621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42"/>
            <p:cNvSpPr/>
            <p:nvPr/>
          </p:nvSpPr>
          <p:spPr>
            <a:xfrm rot="16200000">
              <a:off x="1904760" y="51051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43"/>
            <p:cNvSpPr/>
            <p:nvPr/>
          </p:nvSpPr>
          <p:spPr>
            <a:xfrm rot="2055000">
              <a:off x="1218960" y="388584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44"/>
            <p:cNvSpPr/>
            <p:nvPr/>
          </p:nvSpPr>
          <p:spPr>
            <a:xfrm rot="12125400">
              <a:off x="2514600" y="464760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45"/>
            <p:cNvSpPr/>
            <p:nvPr/>
          </p:nvSpPr>
          <p:spPr>
            <a:xfrm rot="6063000">
              <a:off x="1980360" y="365724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Group 47"/>
            <p:cNvGrpSpPr/>
            <p:nvPr/>
          </p:nvGrpSpPr>
          <p:grpSpPr>
            <a:xfrm>
              <a:off x="6934320" y="4267080"/>
              <a:ext cx="609480" cy="609480"/>
              <a:chOff x="6934320" y="4267080"/>
              <a:chExt cx="609480" cy="609480"/>
            </a:xfrm>
          </p:grpSpPr>
          <p:sp>
            <p:nvSpPr>
              <p:cNvPr id="222" name="Oval 48"/>
              <p:cNvSpPr/>
              <p:nvPr/>
            </p:nvSpPr>
            <p:spPr>
              <a:xfrm>
                <a:off x="6934320" y="4267080"/>
                <a:ext cx="60948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49"/>
              <p:cNvSpPr/>
              <p:nvPr/>
            </p:nvSpPr>
            <p:spPr>
              <a:xfrm>
                <a:off x="6998760" y="43815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Oval 50"/>
            <p:cNvSpPr/>
            <p:nvPr/>
          </p:nvSpPr>
          <p:spPr>
            <a:xfrm rot="16933800">
              <a:off x="6933960" y="37335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51"/>
            <p:cNvSpPr/>
            <p:nvPr/>
          </p:nvSpPr>
          <p:spPr>
            <a:xfrm rot="19951200">
              <a:off x="7467480" y="419076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52"/>
            <p:cNvSpPr/>
            <p:nvPr/>
          </p:nvSpPr>
          <p:spPr>
            <a:xfrm rot="13362000">
              <a:off x="6248160" y="396180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53"/>
            <p:cNvSpPr/>
            <p:nvPr/>
          </p:nvSpPr>
          <p:spPr>
            <a:xfrm rot="7161600">
              <a:off x="6400440" y="5105160"/>
              <a:ext cx="87624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54"/>
            <p:cNvSpPr/>
            <p:nvPr/>
          </p:nvSpPr>
          <p:spPr>
            <a:xfrm rot="2842800">
              <a:off x="7238520" y="5029200"/>
              <a:ext cx="876600" cy="266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55"/>
            <p:cNvSpPr/>
            <p:nvPr/>
          </p:nvSpPr>
          <p:spPr>
            <a:xfrm rot="10030200">
              <a:off x="6022440" y="4570200"/>
              <a:ext cx="876600" cy="3045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56"/>
            <p:cNvSpPr/>
            <p:nvPr/>
          </p:nvSpPr>
          <p:spPr>
            <a:xfrm>
              <a:off x="4572360" y="434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59"/>
          <p:cNvSpPr/>
          <p:nvPr/>
        </p:nvSpPr>
        <p:spPr>
          <a:xfrm>
            <a:off x="308880" y="304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Механизм электролитической диссоци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0-11T18:08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