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853-DE5D-4CF1-8D49-1C4D2D51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95E-9E27-4717-8945-99B3F68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ABA-B846-4637-8421-E97B2C1B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608-928F-4B7B-A224-03BF3AB3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7E1-F7BA-4D42-A1E5-BC0AC7DE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AA5F-BE4B-4853-8505-C0D6BFCD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180-0481-4B1D-B4DD-ACB895C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6261-EC9A-4EDD-AF27-2C61764F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BE7-1D48-4F29-BA45-FF5563D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173F-E453-4A11-AD7A-1087A76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1E3-A28E-483A-BD29-B234AA2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2F8-1C01-4E23-A56D-5A770A7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5F41-4B2B-4C3B-8450-85D1B24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F65-F782-437A-9CCD-F48A2EAD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E92-0D8B-46CE-8173-A835448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8C22-565F-4AA5-97E7-8BC319F8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3869-AD67-462D-BC47-E58C4FBB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BDCD-3215-4DF7-8C39-B880D288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EEB3-511E-43A9-B580-DC3EA9A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937D-D22C-49C6-874A-4243820F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DB78-3AA0-42E7-B61F-E955C128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E27D-2C0A-4837-A0FD-29B36327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750-2560-4F46-BED4-FAC7390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0CDE-28F8-46A5-B91A-16A9DCD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C5D3-5978-44AF-A59B-36CE7A6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FAEF-BA54-401F-A031-955EFB5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FA83-FD51-4466-8BFA-11D1E22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B2D9-90C4-49D3-8BB4-963F2BB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8F7C-3557-4A53-8EED-D288C293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B943-C248-4AA5-B892-3A1E52B8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EAA0-263F-4FFB-8FAC-CA83D58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A830-2B91-48C8-AAA8-A9DFF75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8D32-A652-4A52-BC91-49612CE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DAA-E086-4AFE-A1B8-36BC9FF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33EE-759E-47F0-A75D-AD2EC790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9587-37DA-46DB-9083-3D904003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0DA1-FFAE-475B-8445-DD3EE21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B483-5BB0-4CAA-AED5-12953D8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392D-F1A2-4E29-BD98-5D78936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A6C6-4F34-495F-8DA4-0A2E2B1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8C6C-6400-48E8-8B5D-8A80A55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2A0F-12A7-4F49-A1E1-352841FA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93A0-5822-4228-AAF5-AA695238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44A8-F484-44D0-A4ED-FC81FC55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319-E6AB-4666-9686-266601F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42DE-8D98-42F6-A1CC-7D866344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002C-C1FD-42CA-93E5-F47E341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ED82-92CD-438D-8A7F-BD3206A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AC93-F52E-4FD4-A178-8FDA31A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482F-77D0-4F96-B165-F52DFEF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F2C3-8EB1-444D-9EB5-DDEC84A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E160-C9C7-4956-9CE4-A06FF86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A5AC-97F6-4F5D-BE1E-ABC4D789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3CD0-A285-4192-9DDB-B607288E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D9E9-C1D2-418A-A04D-E7B17447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CDE-5F44-4C5D-8045-B811FA0C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04D2-BBA2-4A79-9F87-A484C6E8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3F3F3-5FFB-45D6-8FBF-EDC86E96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19758-BDA3-45FC-AA16-5F768F0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0B26F-6FEE-485F-81B0-B42D08F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DF067-098E-47B4-8E8A-E841FCE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31B86-12F1-4786-80D2-651DD20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2C2E8-7F3E-4EF7-822B-D803DB9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7FA07-DA2F-42BA-A4B6-D02B2F9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BDB18-9FC7-45CB-BD29-CEDB82B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32CE9-839B-47E4-8E37-8B22088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39C-81C4-440B-A2F8-AE52BE1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8DC58-36D2-42E0-833E-02445F9B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3E0BB-FB9A-4458-AC2D-2FC4ADE5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60E34-E29B-4B32-B33B-68518323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07F7-0DCC-4419-BE9E-6B9ACD04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7EC4-324F-4D38-B4D8-88D325E5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E98C-53D9-4105-A536-0468A00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7EC5-487D-4C58-925D-A4F3564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91BC-12EC-4F7B-84CD-8952A48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26C1-A824-42CD-BCC6-86D1FE73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5365-C04A-43C8-9660-1F13369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227-0274-4C13-BAD3-DC81973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A411-CF42-48BA-BA9F-1D846FD8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1112E-FAC8-48C3-9AEC-06BE876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5E09-C85F-4BA3-9F9D-E3C41AD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71B1-18F2-4047-839E-C6917246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B30C-6A80-4556-A208-7A756B78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8FE-A2FD-41DF-AB7A-C7CEE7A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67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47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F65-7F8C-4236-AC4A-79508341047A}" type="slidenum">
              <a:rPr b="0" lang="ru-RU" sz="1200" spc="-1" strike="noStrike">
                <a:solidFill>
                  <a:srgbClr val="0024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7ED3-C828-4A63-B244-C55232C1E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F45D-46AF-4950-ABBE-44B354BBF758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C161-6440-4768-BB1F-20F2C990C48E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1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9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2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67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47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1AE-6B8B-4480-8F80-D8FDC0248032}" type="slidenum">
              <a:rPr b="0" lang="ru-RU" sz="1200" spc="-1" strike="noStrike">
                <a:solidFill>
                  <a:srgbClr val="0024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67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D93-228D-4702-9BAE-B2AF0ACF0342}" type="slidenum">
              <a:rPr b="0" lang="ru-RU" sz="1200" spc="-1" strike="noStrike">
                <a:solidFill>
                  <a:srgbClr val="0024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B61F-68C0-419D-A188-A8083DB1D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36360" y="907920"/>
            <a:ext cx="9064800" cy="23655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85520" y="4572000"/>
            <a:ext cx="7854840" cy="714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1c58"/>
              </a:solidFill>
              <a:latin typeface="Constantia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071720" y="28584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643720" y="585792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pic>
        <p:nvPicPr>
          <p:cNvPr id="340" name="Рисунок 9" descr=""/>
          <p:cNvPicPr/>
          <p:nvPr/>
        </p:nvPicPr>
        <p:blipFill>
          <a:blip r:embed="rId2"/>
          <a:srcRect l="36095" t="36876" r="35781" b="35002"/>
          <a:stretch/>
        </p:blipFill>
        <p:spPr>
          <a:xfrm>
            <a:off x="642960" y="314316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2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74" name="Прямая со стрелкой 3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grpSp>
        <p:nvGrpSpPr>
          <p:cNvPr id="475" name="Группа 44"/>
          <p:cNvGrpSpPr/>
          <p:nvPr/>
        </p:nvGrpSpPr>
        <p:grpSpPr>
          <a:xfrm>
            <a:off x="2214720" y="4142880"/>
            <a:ext cx="500040" cy="786240"/>
            <a:chOff x="2214720" y="4142880"/>
            <a:chExt cx="500040" cy="786240"/>
          </a:xfrm>
        </p:grpSpPr>
        <p:sp>
          <p:nvSpPr>
            <p:cNvPr id="476" name="Прямая соединительная линия 13"/>
            <p:cNvSpPr/>
            <p:nvPr/>
          </p:nvSpPr>
          <p:spPr>
            <a:xfrm>
              <a:off x="221472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77" name="Прямая со стрелкой 35"/>
            <p:cNvCxnSpPr/>
            <p:nvPr/>
          </p:nvCxnSpPr>
          <p:spPr>
            <a:xfrm flipH="1">
              <a:off x="235620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478" name="TextBox 5"/>
          <p:cNvSpPr/>
          <p:nvPr/>
        </p:nvSpPr>
        <p:spPr>
          <a:xfrm>
            <a:off x="928800" y="5643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1" name="Прямая соединительная линия 12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82" name="Прямая со стрелкой 32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3" name="Прямая со стрелкой 33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84" name="Группа 28"/>
          <p:cNvGrpSpPr/>
          <p:nvPr/>
        </p:nvGrpSpPr>
        <p:grpSpPr>
          <a:xfrm>
            <a:off x="2214720" y="5142960"/>
            <a:ext cx="642960" cy="788040"/>
            <a:chOff x="2214720" y="5142960"/>
            <a:chExt cx="642960" cy="788040"/>
          </a:xfrm>
        </p:grpSpPr>
        <p:sp>
          <p:nvSpPr>
            <p:cNvPr id="485" name="Прямая соединительная линия 28"/>
            <p:cNvSpPr/>
            <p:nvPr/>
          </p:nvSpPr>
          <p:spPr>
            <a:xfrm>
              <a:off x="22147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86" name="Прямая со стрелкой 29"/>
            <p:cNvCxnSpPr/>
            <p:nvPr/>
          </p:nvCxnSpPr>
          <p:spPr>
            <a:xfrm flipH="1">
              <a:off x="23562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87" name="Прямая со стрелкой 30"/>
            <p:cNvCxnSpPr/>
            <p:nvPr/>
          </p:nvCxnSpPr>
          <p:spPr>
            <a:xfrm flipV="1">
              <a:off x="26434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88" name="Группа 32"/>
          <p:cNvGrpSpPr/>
          <p:nvPr/>
        </p:nvGrpSpPr>
        <p:grpSpPr>
          <a:xfrm>
            <a:off x="3000240" y="5142960"/>
            <a:ext cx="642960" cy="788040"/>
            <a:chOff x="3000240" y="5142960"/>
            <a:chExt cx="642960" cy="788040"/>
          </a:xfrm>
        </p:grpSpPr>
        <p:sp>
          <p:nvSpPr>
            <p:cNvPr id="489" name="Прямая соединительная линия 25"/>
            <p:cNvSpPr/>
            <p:nvPr/>
          </p:nvSpPr>
          <p:spPr>
            <a:xfrm>
              <a:off x="300024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90" name="Прямая со стрелкой 26"/>
            <p:cNvCxnSpPr/>
            <p:nvPr/>
          </p:nvCxnSpPr>
          <p:spPr>
            <a:xfrm flipH="1">
              <a:off x="314172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91" name="Прямая со стрелкой 27"/>
            <p:cNvCxnSpPr/>
            <p:nvPr/>
          </p:nvCxnSpPr>
          <p:spPr>
            <a:xfrm flipV="1">
              <a:off x="342900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92" name="Группа 36"/>
          <p:cNvGrpSpPr/>
          <p:nvPr/>
        </p:nvGrpSpPr>
        <p:grpSpPr>
          <a:xfrm>
            <a:off x="3786120" y="5142960"/>
            <a:ext cx="642960" cy="788040"/>
            <a:chOff x="3786120" y="5142960"/>
            <a:chExt cx="642960" cy="788040"/>
          </a:xfrm>
        </p:grpSpPr>
        <p:sp>
          <p:nvSpPr>
            <p:cNvPr id="493" name="Прямая соединительная линия 22"/>
            <p:cNvSpPr/>
            <p:nvPr/>
          </p:nvSpPr>
          <p:spPr>
            <a:xfrm>
              <a:off x="37861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94" name="Прямая со стрелкой 23"/>
            <p:cNvCxnSpPr/>
            <p:nvPr/>
          </p:nvCxnSpPr>
          <p:spPr>
            <a:xfrm flipH="1">
              <a:off x="39276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95" name="Прямая со стрелкой 24"/>
            <p:cNvCxnSpPr/>
            <p:nvPr/>
          </p:nvCxnSpPr>
          <p:spPr>
            <a:xfrm flipV="1">
              <a:off x="42148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96" name="Группа 40"/>
          <p:cNvGrpSpPr/>
          <p:nvPr/>
        </p:nvGrpSpPr>
        <p:grpSpPr>
          <a:xfrm>
            <a:off x="1428840" y="5357160"/>
            <a:ext cx="642960" cy="788040"/>
            <a:chOff x="1428840" y="5357160"/>
            <a:chExt cx="642960" cy="788040"/>
          </a:xfrm>
        </p:grpSpPr>
        <p:sp>
          <p:nvSpPr>
            <p:cNvPr id="497" name="Прямая соединительная линия 19"/>
            <p:cNvSpPr/>
            <p:nvPr/>
          </p:nvSpPr>
          <p:spPr>
            <a:xfrm>
              <a:off x="1428840" y="58582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98" name="Прямая со стрелкой 20"/>
            <p:cNvCxnSpPr/>
            <p:nvPr/>
          </p:nvCxnSpPr>
          <p:spPr>
            <a:xfrm flipH="1">
              <a:off x="1570320" y="53575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99" name="Прямая со стрелкой 21"/>
            <p:cNvCxnSpPr/>
            <p:nvPr/>
          </p:nvCxnSpPr>
          <p:spPr>
            <a:xfrm flipV="1">
              <a:off x="1857600" y="53571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00" name="Группа 45"/>
          <p:cNvGrpSpPr/>
          <p:nvPr/>
        </p:nvGrpSpPr>
        <p:grpSpPr>
          <a:xfrm>
            <a:off x="3071880" y="4142880"/>
            <a:ext cx="500040" cy="786240"/>
            <a:chOff x="3071880" y="4142880"/>
            <a:chExt cx="500040" cy="786240"/>
          </a:xfrm>
        </p:grpSpPr>
        <p:sp>
          <p:nvSpPr>
            <p:cNvPr id="501" name="Прямая соединительная линия 17"/>
            <p:cNvSpPr/>
            <p:nvPr/>
          </p:nvSpPr>
          <p:spPr>
            <a:xfrm>
              <a:off x="307188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502" name="Прямая со стрелкой 18"/>
            <p:cNvCxnSpPr/>
            <p:nvPr/>
          </p:nvCxnSpPr>
          <p:spPr>
            <a:xfrm flipH="1">
              <a:off x="321336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grpSp>
        <p:nvGrpSpPr>
          <p:cNvPr id="503" name="Группа 48"/>
          <p:cNvGrpSpPr/>
          <p:nvPr/>
        </p:nvGrpSpPr>
        <p:grpSpPr>
          <a:xfrm>
            <a:off x="3929040" y="4142880"/>
            <a:ext cx="500040" cy="786240"/>
            <a:chOff x="3929040" y="4142880"/>
            <a:chExt cx="500040" cy="786240"/>
          </a:xfrm>
        </p:grpSpPr>
        <p:sp>
          <p:nvSpPr>
            <p:cNvPr id="504" name="Прямая соединительная линия 15"/>
            <p:cNvSpPr/>
            <p:nvPr/>
          </p:nvSpPr>
          <p:spPr>
            <a:xfrm>
              <a:off x="392904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505" name="Прямая со стрелкой 16"/>
            <p:cNvCxnSpPr/>
            <p:nvPr/>
          </p:nvCxnSpPr>
          <p:spPr>
            <a:xfrm flipH="1">
              <a:off x="407052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506" name="Прямая соединительная линия 36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07" name="Прямая соединительная линия 37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08" name="Прямая соединительная линия 38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09" name="Прямая соединительная линия 39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0" name="Прямая соединительная линия 40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1" name="Заголовок 1"/>
          <p:cNvSpPr/>
          <p:nvPr/>
        </p:nvSpPr>
        <p:spPr>
          <a:xfrm>
            <a:off x="42876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2" name="Содержимое 2"/>
          <p:cNvSpPr/>
          <p:nvPr/>
        </p:nvSpPr>
        <p:spPr>
          <a:xfrm>
            <a:off x="500040" y="16430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3" name="Прямоугольник 43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5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4" name="TextBox 44"/>
          <p:cNvSpPr/>
          <p:nvPr/>
        </p:nvSpPr>
        <p:spPr>
          <a:xfrm>
            <a:off x="442908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5" name="TextBox 47"/>
          <p:cNvSpPr/>
          <p:nvPr/>
        </p:nvSpPr>
        <p:spPr>
          <a:xfrm>
            <a:off x="428616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6" name="TextBox 48"/>
          <p:cNvSpPr/>
          <p:nvPr/>
        </p:nvSpPr>
        <p:spPr>
          <a:xfrm>
            <a:off x="5286240" y="4929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7" name="TextBox 49"/>
          <p:cNvSpPr/>
          <p:nvPr/>
        </p:nvSpPr>
        <p:spPr>
          <a:xfrm>
            <a:off x="5286240" y="4929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5529 C 0.00764 -0.06223 0.00018 -0.05228 0.00469 -0.0613 C 0.00625 -0.06454 0.0099 -0.06801 0.01198 -0.07079 C 0.01632 -0.07657 0.02205 -0.08744 0.02813 -0.08999 C 0.03282 -0.10016 0.03907 -0.10919 0.04427 -0.1189 C 0.04792 -0.12538 0.04462 -0.11682 0.04792 -0.12376 C 0.05174 -0.13162 0.05886 -0.14296 0.06597 -0.14527 C 0.07917 -0.15799 0.10643 -0.16493 0.12275 -0.16678 C 0.15591 -0.17696 0.275 -0.16748 0.30382 -0.16678 C 0.30643 -0.1654 0.30938 -0.16517 0.31198 -0.16331 C 0.31268 -0.16285 0.31302 -0.16123 0.31372 -0.16077 C 0.3224 -0.15499 0.33334 -0.15406 0.34254 -0.15013 C 0.34445 -0.13926 0.34532 -0.12839 0.34792 -0.11774 C 0.34931 -0.11219 0.3507 -0.10086 0.3507 -0.10086 C 0.35157 -0.07749 0.35157 -0.08559 0.35157 -0.0768 E">
                                      <p:cBhvr>
                                        <p:cTn id="9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br>
              <a:rPr sz="4500"/>
            </a:b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28760" y="1499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личием неподеленной электронной пары у одного атома и свободной орбитали у другого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lang="ru-RU" sz="4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2454120" y="638028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22" name="Прямая со стрелкой 8"/>
          <p:cNvCxnSpPr/>
          <p:nvPr/>
        </p:nvCxnSpPr>
        <p:spPr>
          <a:xfrm flipV="1">
            <a:off x="784800" y="4144320"/>
            <a:ext cx="1080" cy="21423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523" name="Прямая соединительная линия 9"/>
          <p:cNvSpPr/>
          <p:nvPr/>
        </p:nvSpPr>
        <p:spPr>
          <a:xfrm>
            <a:off x="1235160" y="5875200"/>
            <a:ext cx="7048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4" name="Прямая соединительная линия 10"/>
          <p:cNvSpPr/>
          <p:nvPr/>
        </p:nvSpPr>
        <p:spPr>
          <a:xfrm>
            <a:off x="1235160" y="5256360"/>
            <a:ext cx="5778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5" name="Прямая соединительная линия 11"/>
          <p:cNvSpPr/>
          <p:nvPr/>
        </p:nvSpPr>
        <p:spPr>
          <a:xfrm>
            <a:off x="2004840" y="5145120"/>
            <a:ext cx="449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>
            <a:off x="2709720" y="5145120"/>
            <a:ext cx="514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27" name="Прямая соединительная линия 13"/>
          <p:cNvSpPr/>
          <p:nvPr/>
        </p:nvSpPr>
        <p:spPr>
          <a:xfrm>
            <a:off x="3416400" y="5145120"/>
            <a:ext cx="5126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28" name="Прямая со стрелкой 14"/>
          <p:cNvCxnSpPr/>
          <p:nvPr/>
        </p:nvCxnSpPr>
        <p:spPr>
          <a:xfrm flipH="1">
            <a:off x="1362960" y="5594040"/>
            <a:ext cx="108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9" name="Прямая со стрелкой 15"/>
          <p:cNvCxnSpPr/>
          <p:nvPr/>
        </p:nvCxnSpPr>
        <p:spPr>
          <a:xfrm flipH="1">
            <a:off x="1361880" y="4863960"/>
            <a:ext cx="2160" cy="61848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530" name="Прямая со стрелкой 16"/>
          <p:cNvCxnSpPr/>
          <p:nvPr/>
        </p:nvCxnSpPr>
        <p:spPr>
          <a:xfrm flipH="1">
            <a:off x="2131200" y="4808160"/>
            <a:ext cx="252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1" name="Прямая со стрелкой 17"/>
          <p:cNvCxnSpPr/>
          <p:nvPr/>
        </p:nvCxnSpPr>
        <p:spPr>
          <a:xfrm flipH="1">
            <a:off x="2838240" y="4808160"/>
            <a:ext cx="216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2" name="TextBox 18"/>
          <p:cNvSpPr/>
          <p:nvPr/>
        </p:nvSpPr>
        <p:spPr>
          <a:xfrm>
            <a:off x="785880" y="55371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785880" y="5145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34" name="TextBox 20"/>
          <p:cNvSpPr/>
          <p:nvPr/>
        </p:nvSpPr>
        <p:spPr>
          <a:xfrm>
            <a:off x="1214280" y="6357960"/>
            <a:ext cx="2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35" name="Прямая со стрелкой 21"/>
          <p:cNvCxnSpPr/>
          <p:nvPr/>
        </p:nvCxnSpPr>
        <p:spPr>
          <a:xfrm flipV="1">
            <a:off x="1619280" y="4863600"/>
            <a:ext cx="2160" cy="61056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536" name="Прямая со стрелкой 22"/>
          <p:cNvCxnSpPr/>
          <p:nvPr/>
        </p:nvCxnSpPr>
        <p:spPr>
          <a:xfrm flipV="1">
            <a:off x="1619280" y="5593680"/>
            <a:ext cx="1008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37" name="Группа 43"/>
          <p:cNvGrpSpPr/>
          <p:nvPr/>
        </p:nvGrpSpPr>
        <p:grpSpPr>
          <a:xfrm>
            <a:off x="7285680" y="2571840"/>
            <a:ext cx="2501280" cy="4019400"/>
            <a:chOff x="7285680" y="2571840"/>
            <a:chExt cx="2501280" cy="4019400"/>
          </a:xfrm>
        </p:grpSpPr>
        <p:sp>
          <p:nvSpPr>
            <p:cNvPr id="538" name="TextBox 23"/>
            <p:cNvSpPr/>
            <p:nvPr/>
          </p:nvSpPr>
          <p:spPr>
            <a:xfrm>
              <a:off x="7286760" y="2571840"/>
              <a:ext cx="25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4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 u="sng">
                  <a:solidFill>
                    <a:srgbClr val="ffff99"/>
                  </a:solidFill>
                  <a:uFillTx/>
                  <a:latin typeface="Times New Roman"/>
                  <a:ea typeface="Times New Roman"/>
                </a:rPr>
                <a:t>0е</a:t>
              </a:r>
              <a:endParaRPr b="0" lang="en-US" sz="40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539" name="Группа 51"/>
            <p:cNvGrpSpPr/>
            <p:nvPr/>
          </p:nvGrpSpPr>
          <p:grpSpPr>
            <a:xfrm>
              <a:off x="7285680" y="4143240"/>
              <a:ext cx="1114920" cy="2448000"/>
              <a:chOff x="7285680" y="4143240"/>
              <a:chExt cx="1114920" cy="2448000"/>
            </a:xfrm>
          </p:grpSpPr>
          <p:cxnSp>
            <p:nvCxnSpPr>
              <p:cNvPr id="540" name="Прямая со стрелкой 28"/>
              <p:cNvCxnSpPr/>
              <p:nvPr/>
            </p:nvCxnSpPr>
            <p:spPr>
              <a:xfrm flipV="1">
                <a:off x="7285680" y="4143240"/>
                <a:ext cx="1800" cy="202392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541" name="Прямая соединительная линия 29"/>
              <p:cNvSpPr/>
              <p:nvPr/>
            </p:nvSpPr>
            <p:spPr>
              <a:xfrm>
                <a:off x="7719840" y="5661000"/>
                <a:ext cx="680760" cy="1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542" name="TextBox 38"/>
              <p:cNvSpPr/>
              <p:nvPr/>
            </p:nvSpPr>
            <p:spPr>
              <a:xfrm>
                <a:off x="7286760" y="5323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543" name="TextBox 40"/>
              <p:cNvSpPr/>
              <p:nvPr/>
            </p:nvSpPr>
            <p:spPr>
              <a:xfrm>
                <a:off x="7719840" y="622296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cxnSp>
        <p:nvCxnSpPr>
          <p:cNvPr id="544" name="Прямая со стрелкой 44"/>
          <p:cNvCxnSpPr/>
          <p:nvPr/>
        </p:nvCxnSpPr>
        <p:spPr>
          <a:xfrm flipH="1">
            <a:off x="3642480" y="4786200"/>
            <a:ext cx="2520" cy="618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45" name="Группа 45"/>
          <p:cNvGrpSpPr/>
          <p:nvPr/>
        </p:nvGrpSpPr>
        <p:grpSpPr>
          <a:xfrm>
            <a:off x="4499640" y="2571840"/>
            <a:ext cx="2501280" cy="4019400"/>
            <a:chOff x="4499640" y="2571840"/>
            <a:chExt cx="2501280" cy="4019400"/>
          </a:xfrm>
        </p:grpSpPr>
        <p:sp>
          <p:nvSpPr>
            <p:cNvPr id="546" name="TextBox 46"/>
            <p:cNvSpPr/>
            <p:nvPr/>
          </p:nvSpPr>
          <p:spPr>
            <a:xfrm>
              <a:off x="4500720" y="2571840"/>
              <a:ext cx="25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4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4000" spc="-1" strike="noStrike" u="sng">
                  <a:solidFill>
                    <a:srgbClr val="ffff99"/>
                  </a:solidFill>
                  <a:uFillTx/>
                  <a:latin typeface="Times New Roman"/>
                  <a:ea typeface="Times New Roman"/>
                </a:rPr>
                <a:t>1е</a:t>
              </a:r>
              <a:endParaRPr b="0" lang="en-US" sz="40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547" name="Группа 51"/>
            <p:cNvGrpSpPr/>
            <p:nvPr/>
          </p:nvGrpSpPr>
          <p:grpSpPr>
            <a:xfrm>
              <a:off x="4499640" y="4143240"/>
              <a:ext cx="1114920" cy="2448000"/>
              <a:chOff x="4499640" y="4143240"/>
              <a:chExt cx="1114920" cy="2448000"/>
            </a:xfrm>
          </p:grpSpPr>
          <p:cxnSp>
            <p:nvCxnSpPr>
              <p:cNvPr id="548" name="Прямая со стрелкой 48"/>
              <p:cNvCxnSpPr/>
              <p:nvPr/>
            </p:nvCxnSpPr>
            <p:spPr>
              <a:xfrm flipV="1">
                <a:off x="4499640" y="4143240"/>
                <a:ext cx="1800" cy="202392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549" name="Прямая соединительная линия 49"/>
              <p:cNvSpPr/>
              <p:nvPr/>
            </p:nvSpPr>
            <p:spPr>
              <a:xfrm>
                <a:off x="4933800" y="5661000"/>
                <a:ext cx="680760" cy="1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550" name="TextBox 50"/>
              <p:cNvSpPr/>
              <p:nvPr/>
            </p:nvSpPr>
            <p:spPr>
              <a:xfrm>
                <a:off x="4500720" y="5323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551" name="TextBox 51"/>
              <p:cNvSpPr/>
              <p:nvPr/>
            </p:nvSpPr>
            <p:spPr>
              <a:xfrm>
                <a:off x="4933800" y="622296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cxnSp>
        <p:nvCxnSpPr>
          <p:cNvPr id="552" name="Прямая со стрелкой 52"/>
          <p:cNvCxnSpPr/>
          <p:nvPr/>
        </p:nvCxnSpPr>
        <p:spPr>
          <a:xfrm flipV="1">
            <a:off x="5070960" y="5285520"/>
            <a:ext cx="1080" cy="6692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4465 C 0.00504 -0.04858 0.00973 -0.05413 0.01563 -0.05667 C 0.0165 -0.05783 0.01736 -0.05945 0.01841 -0.06038 C 0.01945 -0.0613 0.02101 -0.06153 0.02205 -0.06269 C 0.02292 -0.06361 0.02292 -0.06546 0.02379 -0.06639 C 0.02587 -0.06893 0.02865 -0.07032 0.03108 -0.0724 C 0.03368 -0.07749 0.03855 -0.08166 0.04271 -0.08443 C 0.04549 -0.08906 0.04757 -0.09045 0.05087 -0.09392 C 0.05348 -0.09669 0.05365 -0.09947 0.05712 -0.10109 C 0.06355 -0.10965 0.0724 -0.11543 0.07969 -0.12283 C 0.08681 -0.13 0.09323 -0.14018 0.10122 -0.1455 C 0.10677 -0.15545 0.11667 -0.16331 0.12466 -0.16956 C 0.12709 -0.17141 0.12917 -0.17465 0.13195 -0.17557 C 0.13438 -0.17627 0.13907 -0.17789 0.13907 -0.17789 C 0.14723 -0.18621 0.15973 -0.18922 0.1698 -0.19107 C 0.18629 -0.19732 0.20313 -0.20218 0.22014 -0.20564 C 0.22639 -0.2068 0.23282 -0.20796 0.23907 -0.20911 C 0.24115 -0.20958 0.24341 -0.20981 0.24549 -0.21027 C 0.24792 -0.21073 0.25261 -0.21166 0.25261 -0.21166 C 0.2573 -0.21374 0.26198 -0.21444 0.26702 -0.21513 C 0.28577 -0.22392 0.30504 -0.22577 0.32466 -0.2297 C 0.34566 -0.22924 0.36667 -0.2297 0.38785 -0.22831 C 0.39375 -0.22785 0.40035 -0.22253 0.40677 -0.22114 C 0.42223 -0.21328 0.43889 -0.20703 0.45521 -0.20449 C 0.4573 -0.20356 0.45955 -0.20264 0.46146 -0.20194 C 0.46407 -0.20102 0.46875 -0.19963 0.46875 -0.19963 C 0.50052 -0.20032 0.51684 -0.20079 0.54358 -0.20449 C 0.57153 -0.2031 0.5915 -0.19986 0.61754 -0.18876 C 0.63316 -0.18205 0.64809 -0.17187 0.66441 -0.1684 C 0.66945 -0.16563 0.67257 -0.16193 0.67691 -0.15753 C 0.679 -0.15221 0.68039 -0.14712 0.6823 -0.14203 C 0.68316 -0.13463 0.68473 -0.12862 0.68594 -0.12144 C 0.68629 -0.10826 0.6849 -0.08235 0.69132 -0.0687 C 0.69202 -0.0576 0.69254 -0.04626 0.6941 -0.03516 C 0.69723 -0.01319 0.70365 0.00786 0.70764 0.02961 C 0.7073 0.03678 0.7073 0.04418 0.70677 0.05135 C 0.70643 0.05644 0.70486 0.06037 0.70486 0.06569 E">
                                      <p:cBhvr>
                                        <p:cTn id="129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76"/>
                </a:solidFill>
                <a:latin typeface="Calibri"/>
              </a:rPr>
              <a:t>Донорно-акцепторный механизм</a:t>
            </a:r>
            <a:endParaRPr b="0" lang="en-US" sz="2800" spc="-1" strike="noStrike">
              <a:solidFill>
                <a:srgbClr val="002676"/>
              </a:solidFill>
              <a:latin typeface="Calibri"/>
            </a:endParaRPr>
          </a:p>
        </p:txBody>
      </p:sp>
      <p:pic>
        <p:nvPicPr>
          <p:cNvPr id="554" name="Picture 5" descr="безымянный1"/>
          <p:cNvPicPr/>
          <p:nvPr/>
        </p:nvPicPr>
        <p:blipFill>
          <a:blip r:embed="rId1"/>
          <a:stretch/>
        </p:blipFill>
        <p:spPr>
          <a:xfrm>
            <a:off x="539640" y="571680"/>
            <a:ext cx="8064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br>
              <a:rPr sz="4500"/>
            </a:b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00040" y="15717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3071880" y="414324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8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58" name="Прямая соединительная линия 5"/>
          <p:cNvSpPr/>
          <p:nvPr/>
        </p:nvSpPr>
        <p:spPr>
          <a:xfrm>
            <a:off x="2428920" y="4786200"/>
            <a:ext cx="642960" cy="19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59" name="Прямая соединительная линия 9"/>
          <p:cNvSpPr/>
          <p:nvPr/>
        </p:nvSpPr>
        <p:spPr>
          <a:xfrm flipH="1">
            <a:off x="3571920" y="5286240"/>
            <a:ext cx="1440" cy="714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0" name="Прямая соединительная линия 11"/>
          <p:cNvSpPr/>
          <p:nvPr/>
        </p:nvSpPr>
        <p:spPr>
          <a:xfrm flipH="1">
            <a:off x="3571920" y="3571920"/>
            <a:ext cx="1440" cy="714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1" name="TextBox 12"/>
          <p:cNvSpPr/>
          <p:nvPr/>
        </p:nvSpPr>
        <p:spPr>
          <a:xfrm>
            <a:off x="3214800" y="264312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3143160" y="585792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1643040" y="4214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64" name="Прямая со стрелкой 16"/>
          <p:cNvCxnSpPr/>
          <p:nvPr/>
        </p:nvCxnSpPr>
        <p:spPr>
          <a:xfrm>
            <a:off x="3928680" y="4785840"/>
            <a:ext cx="786600" cy="2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65" name="TextBox 17"/>
          <p:cNvSpPr/>
          <p:nvPr/>
        </p:nvSpPr>
        <p:spPr>
          <a:xfrm>
            <a:off x="4857840" y="4214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6" name="Прямая соединительная линия 19"/>
          <p:cNvSpPr/>
          <p:nvPr/>
        </p:nvSpPr>
        <p:spPr>
          <a:xfrm flipH="1">
            <a:off x="1141560" y="2786040"/>
            <a:ext cx="1440" cy="357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7" name="Прямая соединительная линия 20"/>
          <p:cNvSpPr/>
          <p:nvPr/>
        </p:nvSpPr>
        <p:spPr>
          <a:xfrm flipH="1">
            <a:off x="6071760" y="2786040"/>
            <a:ext cx="1800" cy="357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8" name="Прямая соединительная линия 22"/>
          <p:cNvSpPr/>
          <p:nvPr/>
        </p:nvSpPr>
        <p:spPr>
          <a:xfrm>
            <a:off x="1143000" y="278604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69" name="Прямая соединительная линия 23"/>
          <p:cNvSpPr/>
          <p:nvPr/>
        </p:nvSpPr>
        <p:spPr>
          <a:xfrm>
            <a:off x="5786280" y="635796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0" name="Прямая соединительная линия 24"/>
          <p:cNvSpPr/>
          <p:nvPr/>
        </p:nvSpPr>
        <p:spPr>
          <a:xfrm>
            <a:off x="1143000" y="635796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1" name="Прямая соединительная линия 25"/>
          <p:cNvSpPr/>
          <p:nvPr/>
        </p:nvSpPr>
        <p:spPr>
          <a:xfrm>
            <a:off x="5786280" y="278604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2" name="TextBox 26"/>
          <p:cNvSpPr/>
          <p:nvPr/>
        </p:nvSpPr>
        <p:spPr>
          <a:xfrm>
            <a:off x="6286680" y="2428920"/>
            <a:ext cx="64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3" name="TextBox 27"/>
          <p:cNvSpPr/>
          <p:nvPr/>
        </p:nvSpPr>
        <p:spPr>
          <a:xfrm>
            <a:off x="6215040" y="52862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28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8faa0"/>
                </a:solidFill>
                <a:latin typeface="Constantia"/>
              </a:rPr>
              <a:t>азота </a:t>
            </a:r>
            <a:r>
              <a:rPr b="1" i="1" lang="en-US" sz="28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28760" y="1499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nstantia"/>
              </a:rPr>
              <a:t>Определите, какие валентные возможности имеет сера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6" name="Прямоугольник 3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en-US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428616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ru-RU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ru-RU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428616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ru-RU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ru-RU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421488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81" name="Прямая со стрелкой 9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582" name="TextBox 11"/>
          <p:cNvSpPr/>
          <p:nvPr/>
        </p:nvSpPr>
        <p:spPr>
          <a:xfrm>
            <a:off x="928800" y="5643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85" name="Прямая соединительная линия 12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586" name="Прямая со стрелкой 38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7" name="Прямая со стрелкой 39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88" name="Группа 28"/>
          <p:cNvGrpSpPr/>
          <p:nvPr/>
        </p:nvGrpSpPr>
        <p:grpSpPr>
          <a:xfrm>
            <a:off x="2214720" y="5142960"/>
            <a:ext cx="642960" cy="788040"/>
            <a:chOff x="2214720" y="5142960"/>
            <a:chExt cx="642960" cy="788040"/>
          </a:xfrm>
        </p:grpSpPr>
        <p:sp>
          <p:nvSpPr>
            <p:cNvPr id="589" name="Прямая соединительная линия 34"/>
            <p:cNvSpPr/>
            <p:nvPr/>
          </p:nvSpPr>
          <p:spPr>
            <a:xfrm>
              <a:off x="22147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590" name="Прямая со стрелкой 35"/>
            <p:cNvCxnSpPr/>
            <p:nvPr/>
          </p:nvCxnSpPr>
          <p:spPr>
            <a:xfrm flipH="1">
              <a:off x="23562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91" name="Прямая со стрелкой 36"/>
            <p:cNvCxnSpPr/>
            <p:nvPr/>
          </p:nvCxnSpPr>
          <p:spPr>
            <a:xfrm flipV="1">
              <a:off x="26434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92" name="Группа 32"/>
          <p:cNvGrpSpPr/>
          <p:nvPr/>
        </p:nvGrpSpPr>
        <p:grpSpPr>
          <a:xfrm>
            <a:off x="3000240" y="5142960"/>
            <a:ext cx="642960" cy="788040"/>
            <a:chOff x="3000240" y="5142960"/>
            <a:chExt cx="642960" cy="788040"/>
          </a:xfrm>
        </p:grpSpPr>
        <p:sp>
          <p:nvSpPr>
            <p:cNvPr id="593" name="Прямая соединительная линия 31"/>
            <p:cNvSpPr/>
            <p:nvPr/>
          </p:nvSpPr>
          <p:spPr>
            <a:xfrm>
              <a:off x="300024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594" name="Прямая со стрелкой 32"/>
            <p:cNvCxnSpPr/>
            <p:nvPr/>
          </p:nvCxnSpPr>
          <p:spPr>
            <a:xfrm flipH="1">
              <a:off x="314172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95" name="Прямая со стрелкой 33"/>
            <p:cNvCxnSpPr/>
            <p:nvPr/>
          </p:nvCxnSpPr>
          <p:spPr>
            <a:xfrm flipV="1">
              <a:off x="342900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96" name="Группа 36"/>
          <p:cNvGrpSpPr/>
          <p:nvPr/>
        </p:nvGrpSpPr>
        <p:grpSpPr>
          <a:xfrm>
            <a:off x="3786120" y="5142960"/>
            <a:ext cx="642960" cy="788040"/>
            <a:chOff x="3786120" y="5142960"/>
            <a:chExt cx="642960" cy="788040"/>
          </a:xfrm>
        </p:grpSpPr>
        <p:sp>
          <p:nvSpPr>
            <p:cNvPr id="597" name="Прямая соединительная линия 28"/>
            <p:cNvSpPr/>
            <p:nvPr/>
          </p:nvSpPr>
          <p:spPr>
            <a:xfrm>
              <a:off x="37861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598" name="Прямая со стрелкой 29"/>
            <p:cNvCxnSpPr/>
            <p:nvPr/>
          </p:nvCxnSpPr>
          <p:spPr>
            <a:xfrm flipH="1">
              <a:off x="39276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99" name="Прямая со стрелкой 30"/>
            <p:cNvCxnSpPr/>
            <p:nvPr/>
          </p:nvCxnSpPr>
          <p:spPr>
            <a:xfrm flipV="1">
              <a:off x="42148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00" name="Группа 40"/>
          <p:cNvGrpSpPr/>
          <p:nvPr/>
        </p:nvGrpSpPr>
        <p:grpSpPr>
          <a:xfrm>
            <a:off x="1428840" y="5357160"/>
            <a:ext cx="642960" cy="788040"/>
            <a:chOff x="1428840" y="5357160"/>
            <a:chExt cx="642960" cy="788040"/>
          </a:xfrm>
        </p:grpSpPr>
        <p:sp>
          <p:nvSpPr>
            <p:cNvPr id="601" name="Прямая соединительная линия 25"/>
            <p:cNvSpPr/>
            <p:nvPr/>
          </p:nvSpPr>
          <p:spPr>
            <a:xfrm>
              <a:off x="1428840" y="58582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602" name="Прямая со стрелкой 26"/>
            <p:cNvCxnSpPr/>
            <p:nvPr/>
          </p:nvCxnSpPr>
          <p:spPr>
            <a:xfrm flipH="1">
              <a:off x="1570320" y="53575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3" name="Прямая со стрелкой 27"/>
            <p:cNvCxnSpPr/>
            <p:nvPr/>
          </p:nvCxnSpPr>
          <p:spPr>
            <a:xfrm flipV="1">
              <a:off x="1857600" y="53571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04" name="Группа 45"/>
          <p:cNvGrpSpPr/>
          <p:nvPr/>
        </p:nvGrpSpPr>
        <p:grpSpPr>
          <a:xfrm>
            <a:off x="3071880" y="4142880"/>
            <a:ext cx="500040" cy="786240"/>
            <a:chOff x="3071880" y="4142880"/>
            <a:chExt cx="500040" cy="786240"/>
          </a:xfrm>
        </p:grpSpPr>
        <p:sp>
          <p:nvSpPr>
            <p:cNvPr id="605" name="Прямая соединительная линия 23"/>
            <p:cNvSpPr/>
            <p:nvPr/>
          </p:nvSpPr>
          <p:spPr>
            <a:xfrm>
              <a:off x="307188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606" name="Прямая со стрелкой 24"/>
            <p:cNvCxnSpPr/>
            <p:nvPr/>
          </p:nvCxnSpPr>
          <p:spPr>
            <a:xfrm flipH="1">
              <a:off x="321336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grpSp>
        <p:nvGrpSpPr>
          <p:cNvPr id="607" name="Группа 48"/>
          <p:cNvGrpSpPr/>
          <p:nvPr/>
        </p:nvGrpSpPr>
        <p:grpSpPr>
          <a:xfrm>
            <a:off x="3929040" y="4142880"/>
            <a:ext cx="500040" cy="786240"/>
            <a:chOff x="3929040" y="4142880"/>
            <a:chExt cx="500040" cy="786240"/>
          </a:xfrm>
        </p:grpSpPr>
        <p:sp>
          <p:nvSpPr>
            <p:cNvPr id="608" name="Прямая соединительная линия 21"/>
            <p:cNvSpPr/>
            <p:nvPr/>
          </p:nvSpPr>
          <p:spPr>
            <a:xfrm>
              <a:off x="392904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609" name="Прямая со стрелкой 22"/>
            <p:cNvCxnSpPr/>
            <p:nvPr/>
          </p:nvCxnSpPr>
          <p:spPr>
            <a:xfrm flipH="1">
              <a:off x="407052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610" name="Прямая соединительная линия 42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1" name="Прямая соединительная линия 43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2" name="Прямая соединительная линия 44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3" name="Прямая соединительная линия 45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4" name="Прямая соединительная линия 46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5" name="Прямая соединительная линия 12"/>
          <p:cNvSpPr/>
          <p:nvPr/>
        </p:nvSpPr>
        <p:spPr>
          <a:xfrm>
            <a:off x="2214720" y="457200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616" name="Прямая со стрелкой 49"/>
          <p:cNvCxnSpPr/>
          <p:nvPr/>
        </p:nvCxnSpPr>
        <p:spPr>
          <a:xfrm flipH="1">
            <a:off x="2355480" y="407160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7" name="Прямая со стрелкой 50"/>
          <p:cNvCxnSpPr/>
          <p:nvPr/>
        </p:nvCxnSpPr>
        <p:spPr>
          <a:xfrm flipV="1">
            <a:off x="2642040" y="4071600"/>
            <a:ext cx="252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TextBox 51"/>
          <p:cNvSpPr/>
          <p:nvPr/>
        </p:nvSpPr>
        <p:spPr>
          <a:xfrm>
            <a:off x="550080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19" name="TextBox 52"/>
          <p:cNvSpPr/>
          <p:nvPr/>
        </p:nvSpPr>
        <p:spPr>
          <a:xfrm>
            <a:off x="557208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0" name="TextBox 53"/>
          <p:cNvSpPr/>
          <p:nvPr/>
        </p:nvSpPr>
        <p:spPr>
          <a:xfrm>
            <a:off x="557208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V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1" name="TextBox 54"/>
          <p:cNvSpPr/>
          <p:nvPr/>
        </p:nvSpPr>
        <p:spPr>
          <a:xfrm>
            <a:off x="4643280" y="4857840"/>
            <a:ext cx="4500720" cy="1849320"/>
          </a:xfrm>
          <a:prstGeom prst="rect">
            <a:avLst/>
          </a:prstGeom>
          <a:solidFill>
            <a:srgbClr val="c2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42cd"/>
                </a:solidFill>
                <a:uFillTx/>
                <a:latin typeface="Times New Roman"/>
                <a:ea typeface="Times New Roman"/>
              </a:rPr>
              <a:t>Вывод: 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2cd"/>
                </a:solidFill>
                <a:latin typeface="Times New Roman"/>
                <a:ea typeface="Times New Roman"/>
              </a:rPr>
              <a:t>сера проявляет валентность </a:t>
            </a:r>
            <a:r>
              <a:rPr b="1" i="1" lang="en-US" sz="3600" spc="-1" strike="noStrike">
                <a:solidFill>
                  <a:srgbClr val="0042cd"/>
                </a:solidFill>
                <a:latin typeface="Times New Roman"/>
                <a:ea typeface="Times New Roman"/>
              </a:rPr>
              <a:t>II,IV,V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532 C 0.00972 -0.06037 0.01615 -0.06847 0.02361 -0.07472 C 0.02813 -0.07842 0.03316 -0.0805 0.03802 -0.08328 C 0.04306 -0.08605 0.04722 -0.09068 0.05243 -0.09276 C 0.05955 -0.10039 0.06771 -0.1034 0.07587 -0.10849 C 0.0882 -0.11635 0.07934 -0.11335 0.08837 -0.11566 C 0.10122 -0.12422 0.11476 -0.13347 0.129 -0.13717 C 0.13698 -0.1418 0.13004 -0.13833 0.14063 -0.14087 C 0.14566 -0.14203 0.14983 -0.14573 0.15504 -0.14689 C 0.15938 -0.15036 0.16146 -0.15059 0.16684 -0.15151 C 0.17587 -0.15637 0.1849 -0.15337 0.19479 -0.1529 C 0.20764 -0.14596 0.21615 -0.14758 0.2316 -0.14689 C 0.23854 -0.14041 0.24167 -0.12931 0.24792 -0.12167 C 0.24966 -0.1145 0.24775 -0.12144 0.25052 -0.1145 C 0.25174 -0.11127 0.25417 -0.10479 0.25417 -0.10479 C 0.25695 -0.08212 0.25347 -0.11196 0.25591 -0.0569 C 0.25625 -0.04904 0.25782 -0.04603 0.25782 -0.03632 E">
                                      <p:cBhvr>
                                        <p:cTn id="173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576 C 0.00591 -0.0657 0.00868 -0.07564 0.01372 -0.08397 C 0.01528 -0.09068 0.01806 -0.09739 0.02188 -0.10201 C 0.02535 -0.1115 0.03125 -0.12006 0.03716 -0.12723 C 0.03889 -0.13463 0.03663 -0.12769 0.0408 -0.13324 C 0.04722 -0.1418 0.04827 -0.14296 0.05608 -0.15013 C 0.06042 -0.15406 0.06476 -0.15915 0.06962 -0.16216 C 0.07309 -0.16424 0.07674 -0.16655 0.08038 -0.16817 C 0.08212 -0.16887 0.08403 -0.16979 0.08577 -0.17049 C 0.08663 -0.17095 0.08854 -0.17164 0.08854 -0.17164 C 0.11163 -0.192 0.16979 -0.1765 0.17413 -0.1765 C 0.18438 -0.18089 0.19479 -0.18344 0.20556 -0.18483 C 0.21059 -0.18691 0.21563 -0.18737 0.22084 -0.18853 C 0.23316 -0.19107 0.24549 -0.19501 0.25782 -0.19686 C 0.2691 -0.20148 0.28143 -0.20333 0.29306 -0.20518 C 0.32188 -0.2038 0.3507 -0.20333 0.37952 -0.20171 C 0.38334 -0.20056 0.39028 -0.1957 0.39028 -0.1957 C 0.39341 -0.19107 0.3974 -0.18876 0.40104 -0.18483 C 0.40591 -0.17951 0.41042 -0.17326 0.41545 -0.16817 C 0.42049 -0.16308 0.42552 -0.161 0.429 -0.1536 C 0.43056 -0.14134 0.43143 -0.13764 0.43716 -0.12839 C 0.44323 -0.11821 0.4316 -0.13463 0.44341 -0.1189 C 0.4441 -0.11798 0.44532 -0.11636 0.44532 -0.11636 C 0.4467 -0.11057 0.44722 -0.10387 0.4507 -0.0997 C 0.44983 -0.09207 0.44879 -0.0842 0.44705 -0.0768 C 0.44809 -0.07287 0.44792 -0.07217 0.44792 -0.07449 E">
                                      <p:cBhvr>
                                        <p:cTn id="197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93500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те валентные возможности кислорода, хлора, углерода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4" name="TextBox 3"/>
          <p:cNvSpPr/>
          <p:nvPr/>
        </p:nvSpPr>
        <p:spPr>
          <a:xfrm>
            <a:off x="285840" y="342900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род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5" name="TextBox 4"/>
          <p:cNvSpPr/>
          <p:nvPr/>
        </p:nvSpPr>
        <p:spPr>
          <a:xfrm>
            <a:off x="4143240" y="3429000"/>
            <a:ext cx="46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чему нет других валентных возможностей?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6" name="TextBox 5"/>
          <p:cNvSpPr/>
          <p:nvPr/>
        </p:nvSpPr>
        <p:spPr>
          <a:xfrm>
            <a:off x="428760" y="4572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о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357120" y="5500800"/>
            <a:ext cx="37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ерод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алентность определяется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лом неспаренных электронов;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м свободных орбиталей;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м неподеленных электронных пар у одного атома и свободных орбиталей у другого </a:t>
            </a:r>
            <a:r>
              <a:rPr b="0" i="1" lang="ru-RU" sz="32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(при образовании ковалентной связи по донорно-акцепторному механизму)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гут ли существовать такие орбитали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) 1d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5f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2dd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ть обоснованный ответ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гут ли электроны атомов следующих элементов наход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следующих орбиталях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— 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 1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 3d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 — 4s; 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 3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 —2d; 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 4s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ть обоснованный от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, какие элементы представлены формул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обоснован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000" y="3214440"/>
            <a:ext cx="8135640" cy="15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элемен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14240" y="1928880"/>
          <a:ext cx="7531200" cy="1106280"/>
        </p:xfrm>
        <a:graphic>
          <a:graphicData uri="http://schemas.openxmlformats.org/drawingml/2006/table">
            <a:tbl>
              <a:tblPr/>
              <a:tblGrid>
                <a:gridCol w="3767400"/>
                <a:gridCol w="37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5;12 ; 31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4; 10 ;35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Rectangle 23"/>
          <p:cNvSpPr/>
          <p:nvPr/>
        </p:nvSpPr>
        <p:spPr>
          <a:xfrm>
            <a:off x="785880" y="85716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fff"/>
                </a:solidFill>
                <a:latin typeface="Calibri"/>
              </a:rPr>
              <a:t>Составить электронные и электронно-графические формулы элемента: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42960" y="4500720"/>
          <a:ext cx="7877160" cy="2304720"/>
        </p:xfrm>
        <a:graphic>
          <a:graphicData uri="http://schemas.openxmlformats.org/drawingml/2006/table">
            <a:tbl>
              <a:tblPr/>
              <a:tblGrid>
                <a:gridCol w="3865680"/>
                <a:gridCol w="4011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3d</a:t>
                      </a:r>
                      <a:r>
                        <a:rPr b="0" lang="ru-RU" sz="2800" spc="-1" strike="noStrike" baseline="40000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135fff"/>
                          </a:solidFill>
                          <a:latin typeface="Arial Rounded MT Bold"/>
                        </a:rPr>
                        <a:t>5s</a:t>
                      </a:r>
                      <a:r>
                        <a:rPr b="1" lang="en-US" sz="2800" spc="-1" strike="noStrike" baseline="30000">
                          <a:solidFill>
                            <a:srgbClr val="135fff"/>
                          </a:solidFill>
                          <a:latin typeface="Arial Rounded MT Bold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135fff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4p</a:t>
                      </a:r>
                      <a:r>
                        <a:rPr b="0" lang="ru-RU" sz="2800" spc="-1" strike="noStrike" baseline="40000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4                   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135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135fff"/>
                          </a:solidFill>
                          <a:latin typeface="Arial Rounded MT Bold"/>
                        </a:rPr>
                        <a:t>6s</a:t>
                      </a:r>
                      <a:r>
                        <a:rPr b="1" lang="en-US" sz="2800" spc="-1" strike="noStrike" baseline="30000">
                          <a:solidFill>
                            <a:srgbClr val="135fff"/>
                          </a:solidFill>
                          <a:latin typeface="Arial Rounded MT Bold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135fff"/>
                          </a:solidFill>
                          <a:latin typeface="Arial Rounded MT Bold"/>
                        </a:rPr>
                        <a:t> </a:t>
                      </a: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35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Calibri"/>
              </a:rPr>
              <a:t>Валентность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2920" y="1785960"/>
            <a:ext cx="885816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Constantia"/>
              </a:rPr>
              <a:t>Валентность</a:t>
            </a:r>
            <a:r>
              <a:rPr b="1" i="1" lang="ru-RU" sz="29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900" spc="-1" strike="noStrike">
                <a:solidFill>
                  <a:srgbClr val="ffff00"/>
                </a:solidFill>
                <a:latin typeface="Constantia"/>
              </a:rPr>
              <a:t>– способность атомов химических элементов образовывать определенное  число  связей  с  другими  атомами </a:t>
            </a:r>
            <a:endParaRPr b="0" lang="en-US" sz="29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214280" y="42148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164304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5" name="TextBox 16"/>
          <p:cNvSpPr/>
          <p:nvPr/>
        </p:nvSpPr>
        <p:spPr>
          <a:xfrm rot="16200000">
            <a:off x="126036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2857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378612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78588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32860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228600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1" name="TextBox 22"/>
          <p:cNvSpPr/>
          <p:nvPr/>
        </p:nvSpPr>
        <p:spPr>
          <a:xfrm rot="16200000">
            <a:off x="340344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2" name="TextBox 23"/>
          <p:cNvSpPr/>
          <p:nvPr/>
        </p:nvSpPr>
        <p:spPr>
          <a:xfrm rot="16200000">
            <a:off x="240336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3" name="TextBox 24"/>
          <p:cNvSpPr/>
          <p:nvPr/>
        </p:nvSpPr>
        <p:spPr>
          <a:xfrm rot="16200000">
            <a:off x="340344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4" name="TextBox 25"/>
          <p:cNvSpPr/>
          <p:nvPr/>
        </p:nvSpPr>
        <p:spPr>
          <a:xfrm rot="16200000">
            <a:off x="240336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5" name="TextBox 26"/>
          <p:cNvSpPr/>
          <p:nvPr/>
        </p:nvSpPr>
        <p:spPr>
          <a:xfrm rot="16200000">
            <a:off x="126036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6" name="TextBox 27"/>
          <p:cNvSpPr/>
          <p:nvPr/>
        </p:nvSpPr>
        <p:spPr>
          <a:xfrm>
            <a:off x="1214280" y="507204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7" name="TextBox 28"/>
          <p:cNvSpPr/>
          <p:nvPr/>
        </p:nvSpPr>
        <p:spPr>
          <a:xfrm>
            <a:off x="2357280" y="507204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8" name="TextBox 29"/>
          <p:cNvSpPr/>
          <p:nvPr/>
        </p:nvSpPr>
        <p:spPr>
          <a:xfrm>
            <a:off x="3286080" y="3286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9" name="TextBox 30"/>
          <p:cNvSpPr/>
          <p:nvPr/>
        </p:nvSpPr>
        <p:spPr>
          <a:xfrm>
            <a:off x="2286000" y="3286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0" name="TextBox 31"/>
          <p:cNvSpPr/>
          <p:nvPr/>
        </p:nvSpPr>
        <p:spPr>
          <a:xfrm>
            <a:off x="1214280" y="3286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1" name="TextBox 32"/>
          <p:cNvSpPr/>
          <p:nvPr/>
        </p:nvSpPr>
        <p:spPr>
          <a:xfrm>
            <a:off x="35712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2" name="TextBox 33"/>
          <p:cNvSpPr/>
          <p:nvPr/>
        </p:nvSpPr>
        <p:spPr>
          <a:xfrm>
            <a:off x="42148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335772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4" name="TextBox 38"/>
          <p:cNvSpPr/>
          <p:nvPr/>
        </p:nvSpPr>
        <p:spPr>
          <a:xfrm>
            <a:off x="6929280" y="378612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5" name="TextBox 39"/>
          <p:cNvSpPr/>
          <p:nvPr/>
        </p:nvSpPr>
        <p:spPr>
          <a:xfrm>
            <a:off x="6858000" y="485784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6" name="TextBox 40"/>
          <p:cNvSpPr/>
          <p:nvPr/>
        </p:nvSpPr>
        <p:spPr>
          <a:xfrm>
            <a:off x="8001000" y="385776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7" name="TextBox 41"/>
          <p:cNvSpPr/>
          <p:nvPr/>
        </p:nvSpPr>
        <p:spPr>
          <a:xfrm>
            <a:off x="5715000" y="385776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8" name="TextBox 42"/>
          <p:cNvSpPr/>
          <p:nvPr/>
        </p:nvSpPr>
        <p:spPr>
          <a:xfrm rot="5400000">
            <a:off x="7121160" y="4311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9" name="TextBox 43"/>
          <p:cNvSpPr/>
          <p:nvPr/>
        </p:nvSpPr>
        <p:spPr>
          <a:xfrm>
            <a:off x="75009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0" name="TextBox 44"/>
          <p:cNvSpPr/>
          <p:nvPr/>
        </p:nvSpPr>
        <p:spPr>
          <a:xfrm>
            <a:off x="642924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1" name="TextBox 45"/>
          <p:cNvSpPr/>
          <p:nvPr/>
        </p:nvSpPr>
        <p:spPr>
          <a:xfrm>
            <a:off x="357120" y="5857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нят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валентность»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именимо только для соединений с ковалентным типом химической связи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00040" y="1642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Constantia"/>
              </a:rPr>
              <a:t>а) числом неспаренных электронов</a:t>
            </a:r>
            <a:endParaRPr b="0" lang="en-US" sz="3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  2е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386" name="Группа 52"/>
          <p:cNvGrpSpPr/>
          <p:nvPr/>
        </p:nvGrpSpPr>
        <p:grpSpPr>
          <a:xfrm>
            <a:off x="857160" y="3714480"/>
            <a:ext cx="3500640" cy="2869560"/>
            <a:chOff x="857160" y="3714480"/>
            <a:chExt cx="3500640" cy="2869560"/>
          </a:xfrm>
        </p:grpSpPr>
        <p:sp>
          <p:nvSpPr>
            <p:cNvPr id="387" name="TextBox 24"/>
            <p:cNvSpPr/>
            <p:nvPr/>
          </p:nvSpPr>
          <p:spPr>
            <a:xfrm>
              <a:off x="2714760" y="6215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P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388" name="Группа 51"/>
            <p:cNvGrpSpPr/>
            <p:nvPr/>
          </p:nvGrpSpPr>
          <p:grpSpPr>
            <a:xfrm>
              <a:off x="857160" y="3714480"/>
              <a:ext cx="3500640" cy="2869560"/>
              <a:chOff x="857160" y="3714480"/>
              <a:chExt cx="3500640" cy="2869560"/>
            </a:xfrm>
          </p:grpSpPr>
          <p:cxnSp>
            <p:nvCxnSpPr>
              <p:cNvPr id="389" name="Прямая со стрелкой 10"/>
              <p:cNvCxnSpPr/>
              <p:nvPr/>
            </p:nvCxnSpPr>
            <p:spPr>
              <a:xfrm flipV="1">
                <a:off x="857160" y="3714480"/>
                <a:ext cx="2160" cy="257328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390" name="Прямая соединительная линия 12"/>
              <p:cNvSpPr/>
              <p:nvPr/>
            </p:nvSpPr>
            <p:spPr>
              <a:xfrm>
                <a:off x="1357200" y="5644080"/>
                <a:ext cx="78588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391" name="Прямая соединительная линия 13"/>
              <p:cNvSpPr/>
              <p:nvPr/>
            </p:nvSpPr>
            <p:spPr>
              <a:xfrm>
                <a:off x="1357200" y="485820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392" name="Прямая соединительная линия 14"/>
              <p:cNvSpPr/>
              <p:nvPr/>
            </p:nvSpPr>
            <p:spPr>
              <a:xfrm>
                <a:off x="2214360" y="4715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393" name="Прямая соединительная линия 15"/>
              <p:cNvSpPr/>
              <p:nvPr/>
            </p:nvSpPr>
            <p:spPr>
              <a:xfrm>
                <a:off x="3000600" y="4715280"/>
                <a:ext cx="57132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394" name="Прямая соединительная линия 16"/>
              <p:cNvSpPr/>
              <p:nvPr/>
            </p:nvSpPr>
            <p:spPr>
              <a:xfrm>
                <a:off x="3786480" y="4715280"/>
                <a:ext cx="57132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395" name="Прямая со стрелкой 18"/>
              <p:cNvCxnSpPr/>
              <p:nvPr/>
            </p:nvCxnSpPr>
            <p:spPr>
              <a:xfrm flipH="1">
                <a:off x="1499760" y="5287320"/>
                <a:ext cx="1440" cy="78588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96" name="Прямая со стрелкой 19"/>
              <p:cNvCxnSpPr/>
              <p:nvPr/>
            </p:nvCxnSpPr>
            <p:spPr>
              <a:xfrm flipH="1">
                <a:off x="1499040" y="435744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97" name="Прямая со стрелкой 20"/>
              <p:cNvCxnSpPr/>
              <p:nvPr/>
            </p:nvCxnSpPr>
            <p:spPr>
              <a:xfrm flipH="1">
                <a:off x="2356200" y="4286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  <p:cxnSp>
            <p:nvCxnSpPr>
              <p:cNvPr id="398" name="Прямая со стрелкой 21"/>
              <p:cNvCxnSpPr/>
              <p:nvPr/>
            </p:nvCxnSpPr>
            <p:spPr>
              <a:xfrm flipH="1">
                <a:off x="3142080" y="4286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  <p:sp>
            <p:nvSpPr>
              <p:cNvPr id="399" name="TextBox 22"/>
              <p:cNvSpPr/>
              <p:nvPr/>
            </p:nvSpPr>
            <p:spPr>
              <a:xfrm>
                <a:off x="857160" y="521532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00" name="TextBox 23"/>
              <p:cNvSpPr/>
              <p:nvPr/>
            </p:nvSpPr>
            <p:spPr>
              <a:xfrm>
                <a:off x="857160" y="4715280"/>
                <a:ext cx="49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01" name="TextBox 25"/>
              <p:cNvSpPr/>
              <p:nvPr/>
            </p:nvSpPr>
            <p:spPr>
              <a:xfrm>
                <a:off x="1357200" y="621576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02" name="Прямая со стрелкой 30"/>
              <p:cNvCxnSpPr/>
              <p:nvPr/>
            </p:nvCxnSpPr>
            <p:spPr>
              <a:xfrm flipV="1">
                <a:off x="1785960" y="435708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03" name="Прямая со стрелкой 36"/>
              <p:cNvCxnSpPr/>
              <p:nvPr/>
            </p:nvCxnSpPr>
            <p:spPr>
              <a:xfrm flipV="1">
                <a:off x="1785960" y="5286240"/>
                <a:ext cx="10080" cy="78660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04" name="TextBox 39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Заголовок 1"/>
          <p:cNvSpPr/>
          <p:nvPr/>
        </p:nvSpPr>
        <p:spPr>
          <a:xfrm>
            <a:off x="50004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6" name="Содержимое 2"/>
          <p:cNvSpPr/>
          <p:nvPr/>
        </p:nvSpPr>
        <p:spPr>
          <a:xfrm>
            <a:off x="500040" y="16430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Constantia"/>
              </a:rPr>
              <a:t>б) числом свободных орбиталей</a:t>
            </a:r>
            <a:endParaRPr b="0" lang="en-US" sz="3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  2е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10" name="Прямая со стрелкой 8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411" name="Прямая соединительная линия 9"/>
          <p:cNvSpPr/>
          <p:nvPr/>
        </p:nvSpPr>
        <p:spPr>
          <a:xfrm>
            <a:off x="1357200" y="5643720"/>
            <a:ext cx="7858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2" name="Прямая соединительная линия 10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>
            <a:off x="2214720" y="4714920"/>
            <a:ext cx="500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4" name="Прямая соединительная линия 12"/>
          <p:cNvSpPr/>
          <p:nvPr/>
        </p:nvSpPr>
        <p:spPr>
          <a:xfrm>
            <a:off x="3000240" y="4714920"/>
            <a:ext cx="5716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5" name="Прямая соединительная линия 13"/>
          <p:cNvSpPr/>
          <p:nvPr/>
        </p:nvSpPr>
        <p:spPr>
          <a:xfrm>
            <a:off x="3786120" y="4714920"/>
            <a:ext cx="5716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16" name="Прямая со стрелкой 14"/>
          <p:cNvCxnSpPr/>
          <p:nvPr/>
        </p:nvCxnSpPr>
        <p:spPr>
          <a:xfrm flipH="1">
            <a:off x="1499400" y="5288040"/>
            <a:ext cx="1080" cy="784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Прямая со стрелкой 15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8" name="Прямая со стрелкой 16"/>
          <p:cNvCxnSpPr/>
          <p:nvPr/>
        </p:nvCxnSpPr>
        <p:spPr>
          <a:xfrm flipH="1">
            <a:off x="2355480" y="4287960"/>
            <a:ext cx="2160" cy="78624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419" name="Прямая со стрелкой 17"/>
          <p:cNvCxnSpPr/>
          <p:nvPr/>
        </p:nvCxnSpPr>
        <p:spPr>
          <a:xfrm flipH="1">
            <a:off x="3141360" y="4287960"/>
            <a:ext cx="2160" cy="78624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sp>
        <p:nvSpPr>
          <p:cNvPr id="420" name="TextBox 18"/>
          <p:cNvSpPr/>
          <p:nvPr/>
        </p:nvSpPr>
        <p:spPr>
          <a:xfrm>
            <a:off x="857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1" name="TextBox 19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23" name="Прямая со стрелкой 21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4" name="Прямая со стрелкой 22"/>
          <p:cNvCxnSpPr/>
          <p:nvPr/>
        </p:nvCxnSpPr>
        <p:spPr>
          <a:xfrm flipV="1">
            <a:off x="1785960" y="5285520"/>
            <a:ext cx="10080" cy="7866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5" name="TextBox 23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7" name="TextBox 25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1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06153 C 0.00382 -0.06709 0.00087 -0.06547 0.00573 -0.06755 C 0.00695 -0.0687 0.00799 -0.07032 0.0092 -0.07125 C 0.01007 -0.07194 0.01129 -0.07171 0.01198 -0.07241 C 0.02049 -0.08073 0.01302 -0.0768 0.0191 -0.07958 C 0.02535 -0.08767 0.03073 -0.09947 0.03802 -0.10595 C 0.04202 -0.11358 0.03733 -0.10595 0.04358 -0.11196 C 0.04775 -0.11589 0.04948 -0.12353 0.05347 -0.12769 C 0.06059 -0.13532 0.07882 -0.1344 0.08577 -0.13486 C 0.09601 -0.1381 0.10469 -0.13879 0.11563 -0.13949 C 0.12136 -0.14088 0.12691 -0.1425 0.13264 -0.14435 C 0.14479 -0.14411 0.18056 -0.1499 0.20018 -0.13949 C 0.20382 -0.13509 0.20782 -0.13116 0.21198 -0.12769 C 0.21806 -0.12237 0.21962 -0.11312 0.22726 -0.10965 C 0.22934 -0.10641 0.23091 -0.10363 0.23351 -0.10109 C 0.23889 -0.08952 0.23698 -0.08628 0.23993 -0.07356 C 0.24028 -0.06593 0.23976 -0.05806 0.2408 -0.05066 C 0.24115 -0.04789 0.24445 -0.04627 0.24445 -0.04349 C 0.24445 -0.03146 0.24445 -0.01966 0.24445 -0.00764 E">
                                      <p:cBhvr>
                                        <p:cTn id="31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935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5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442908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432" name="Группа 52"/>
          <p:cNvGrpSpPr/>
          <p:nvPr/>
        </p:nvGrpSpPr>
        <p:grpSpPr>
          <a:xfrm>
            <a:off x="857160" y="3714120"/>
            <a:ext cx="3571920" cy="3012480"/>
            <a:chOff x="857160" y="3714120"/>
            <a:chExt cx="3571920" cy="3012480"/>
          </a:xfrm>
        </p:grpSpPr>
        <p:sp>
          <p:nvSpPr>
            <p:cNvPr id="433" name="TextBox 8"/>
            <p:cNvSpPr/>
            <p:nvPr/>
          </p:nvSpPr>
          <p:spPr>
            <a:xfrm>
              <a:off x="2714400" y="6287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P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34" name="Прямая со стрелкой 10"/>
            <p:cNvCxnSpPr/>
            <p:nvPr/>
          </p:nvCxnSpPr>
          <p:spPr>
            <a:xfrm flipV="1">
              <a:off x="857160" y="3714120"/>
              <a:ext cx="2160" cy="2572920"/>
            </a:xfrm>
            <a:prstGeom prst="straightConnector1">
              <a:avLst/>
            </a:prstGeom>
            <a:ln w="47520">
              <a:solidFill>
                <a:srgbClr val="f8faa0"/>
              </a:solidFill>
              <a:miter/>
              <a:tailEnd len="med" type="arrow" w="med"/>
            </a:ln>
          </p:spPr>
        </p:cxnSp>
        <p:grpSp>
          <p:nvGrpSpPr>
            <p:cNvPr id="435" name="Группа 44"/>
            <p:cNvGrpSpPr/>
            <p:nvPr/>
          </p:nvGrpSpPr>
          <p:grpSpPr>
            <a:xfrm>
              <a:off x="2214360" y="4142880"/>
              <a:ext cx="500040" cy="786240"/>
              <a:chOff x="2214360" y="4142880"/>
              <a:chExt cx="500040" cy="786240"/>
            </a:xfrm>
          </p:grpSpPr>
          <p:sp>
            <p:nvSpPr>
              <p:cNvPr id="436" name="Прямая соединительная линия 13"/>
              <p:cNvSpPr/>
              <p:nvPr/>
            </p:nvSpPr>
            <p:spPr>
              <a:xfrm>
                <a:off x="221436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37" name="Прямая со стрелкой 18"/>
              <p:cNvCxnSpPr/>
              <p:nvPr/>
            </p:nvCxnSpPr>
            <p:spPr>
              <a:xfrm flipH="1">
                <a:off x="235584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  <p:sp>
          <p:nvSpPr>
            <p:cNvPr id="438" name="TextBox 20"/>
            <p:cNvSpPr/>
            <p:nvPr/>
          </p:nvSpPr>
          <p:spPr>
            <a:xfrm>
              <a:off x="928440" y="5644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II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sp>
          <p:nvSpPr>
            <p:cNvPr id="439" name="TextBox 21"/>
            <p:cNvSpPr/>
            <p:nvPr/>
          </p:nvSpPr>
          <p:spPr>
            <a:xfrm>
              <a:off x="857160" y="4714920"/>
              <a:ext cx="49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III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sp>
          <p:nvSpPr>
            <p:cNvPr id="440" name="TextBox 22"/>
            <p:cNvSpPr/>
            <p:nvPr/>
          </p:nvSpPr>
          <p:spPr>
            <a:xfrm>
              <a:off x="1357200" y="6358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S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441" name="Группа 27"/>
            <p:cNvGrpSpPr/>
            <p:nvPr/>
          </p:nvGrpSpPr>
          <p:grpSpPr>
            <a:xfrm>
              <a:off x="1357200" y="4357080"/>
              <a:ext cx="642960" cy="787320"/>
              <a:chOff x="1357200" y="4357080"/>
              <a:chExt cx="642960" cy="787320"/>
            </a:xfrm>
          </p:grpSpPr>
          <p:sp>
            <p:nvSpPr>
              <p:cNvPr id="442" name="Прямая соединительная линия 12"/>
              <p:cNvSpPr/>
              <p:nvPr/>
            </p:nvSpPr>
            <p:spPr>
              <a:xfrm>
                <a:off x="1357200" y="485784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43" name="Прямая со стрелкой 17"/>
              <p:cNvCxnSpPr/>
              <p:nvPr/>
            </p:nvCxnSpPr>
            <p:spPr>
              <a:xfrm flipH="1">
                <a:off x="1498680" y="435744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44" name="Прямая со стрелкой 23"/>
              <p:cNvCxnSpPr/>
              <p:nvPr/>
            </p:nvCxnSpPr>
            <p:spPr>
              <a:xfrm flipV="1">
                <a:off x="1785960" y="435708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45" name="Группа 28"/>
            <p:cNvGrpSpPr/>
            <p:nvPr/>
          </p:nvGrpSpPr>
          <p:grpSpPr>
            <a:xfrm>
              <a:off x="2214360" y="5142960"/>
              <a:ext cx="642960" cy="787320"/>
              <a:chOff x="2214360" y="5142960"/>
              <a:chExt cx="642960" cy="787320"/>
            </a:xfrm>
          </p:grpSpPr>
          <p:sp>
            <p:nvSpPr>
              <p:cNvPr id="446" name="Прямая соединительная линия 29"/>
              <p:cNvSpPr/>
              <p:nvPr/>
            </p:nvSpPr>
            <p:spPr>
              <a:xfrm>
                <a:off x="221436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47" name="Прямая со стрелкой 30"/>
              <p:cNvCxnSpPr/>
              <p:nvPr/>
            </p:nvCxnSpPr>
            <p:spPr>
              <a:xfrm flipH="1">
                <a:off x="235584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48" name="Прямая со стрелкой 31"/>
              <p:cNvCxnSpPr/>
              <p:nvPr/>
            </p:nvCxnSpPr>
            <p:spPr>
              <a:xfrm flipV="1">
                <a:off x="264312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49" name="Группа 32"/>
            <p:cNvGrpSpPr/>
            <p:nvPr/>
          </p:nvGrpSpPr>
          <p:grpSpPr>
            <a:xfrm>
              <a:off x="3000240" y="5142960"/>
              <a:ext cx="642960" cy="787320"/>
              <a:chOff x="3000240" y="5142960"/>
              <a:chExt cx="642960" cy="787320"/>
            </a:xfrm>
          </p:grpSpPr>
          <p:sp>
            <p:nvSpPr>
              <p:cNvPr id="450" name="Прямая соединительная линия 33"/>
              <p:cNvSpPr/>
              <p:nvPr/>
            </p:nvSpPr>
            <p:spPr>
              <a:xfrm>
                <a:off x="300024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51" name="Прямая со стрелкой 34"/>
              <p:cNvCxnSpPr/>
              <p:nvPr/>
            </p:nvCxnSpPr>
            <p:spPr>
              <a:xfrm flipH="1">
                <a:off x="314172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52" name="Прямая со стрелкой 35"/>
              <p:cNvCxnSpPr/>
              <p:nvPr/>
            </p:nvCxnSpPr>
            <p:spPr>
              <a:xfrm flipV="1">
                <a:off x="342900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53" name="Группа 36"/>
            <p:cNvGrpSpPr/>
            <p:nvPr/>
          </p:nvGrpSpPr>
          <p:grpSpPr>
            <a:xfrm>
              <a:off x="3786120" y="5142960"/>
              <a:ext cx="642960" cy="787320"/>
              <a:chOff x="3786120" y="5142960"/>
              <a:chExt cx="642960" cy="787320"/>
            </a:xfrm>
          </p:grpSpPr>
          <p:sp>
            <p:nvSpPr>
              <p:cNvPr id="454" name="Прямая соединительная линия 37"/>
              <p:cNvSpPr/>
              <p:nvPr/>
            </p:nvSpPr>
            <p:spPr>
              <a:xfrm>
                <a:off x="378612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55" name="Прямая со стрелкой 38"/>
              <p:cNvCxnSpPr/>
              <p:nvPr/>
            </p:nvCxnSpPr>
            <p:spPr>
              <a:xfrm flipH="1">
                <a:off x="392760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56" name="Прямая со стрелкой 39"/>
              <p:cNvCxnSpPr/>
              <p:nvPr/>
            </p:nvCxnSpPr>
            <p:spPr>
              <a:xfrm flipV="1">
                <a:off x="421488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57" name="Группа 40"/>
            <p:cNvGrpSpPr/>
            <p:nvPr/>
          </p:nvGrpSpPr>
          <p:grpSpPr>
            <a:xfrm>
              <a:off x="1428480" y="5357520"/>
              <a:ext cx="642960" cy="787320"/>
              <a:chOff x="1428480" y="5357520"/>
              <a:chExt cx="642960" cy="787320"/>
            </a:xfrm>
          </p:grpSpPr>
          <p:sp>
            <p:nvSpPr>
              <p:cNvPr id="458" name="Прямая соединительная линия 41"/>
              <p:cNvSpPr/>
              <p:nvPr/>
            </p:nvSpPr>
            <p:spPr>
              <a:xfrm>
                <a:off x="1428480" y="585828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59" name="Прямая со стрелкой 42"/>
              <p:cNvCxnSpPr/>
              <p:nvPr/>
            </p:nvCxnSpPr>
            <p:spPr>
              <a:xfrm flipH="1">
                <a:off x="1569960" y="535788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60" name="Прямая со стрелкой 43"/>
              <p:cNvCxnSpPr/>
              <p:nvPr/>
            </p:nvCxnSpPr>
            <p:spPr>
              <a:xfrm flipV="1">
                <a:off x="1857240" y="535752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61" name="Группа 45"/>
            <p:cNvGrpSpPr/>
            <p:nvPr/>
          </p:nvGrpSpPr>
          <p:grpSpPr>
            <a:xfrm>
              <a:off x="3071880" y="4142880"/>
              <a:ext cx="500040" cy="786240"/>
              <a:chOff x="3071880" y="4142880"/>
              <a:chExt cx="500040" cy="786240"/>
            </a:xfrm>
          </p:grpSpPr>
          <p:sp>
            <p:nvSpPr>
              <p:cNvPr id="462" name="Прямая соединительная линия 46"/>
              <p:cNvSpPr/>
              <p:nvPr/>
            </p:nvSpPr>
            <p:spPr>
              <a:xfrm>
                <a:off x="307188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63" name="Прямая со стрелкой 47"/>
              <p:cNvCxnSpPr/>
              <p:nvPr/>
            </p:nvCxnSpPr>
            <p:spPr>
              <a:xfrm flipH="1">
                <a:off x="321336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  <p:grpSp>
          <p:nvGrpSpPr>
            <p:cNvPr id="464" name="Группа 48"/>
            <p:cNvGrpSpPr/>
            <p:nvPr/>
          </p:nvGrpSpPr>
          <p:grpSpPr>
            <a:xfrm>
              <a:off x="3929040" y="4142880"/>
              <a:ext cx="500040" cy="786240"/>
              <a:chOff x="3929040" y="4142880"/>
              <a:chExt cx="500040" cy="786240"/>
            </a:xfrm>
          </p:grpSpPr>
          <p:sp>
            <p:nvSpPr>
              <p:cNvPr id="465" name="Прямая соединительная линия 49"/>
              <p:cNvSpPr/>
              <p:nvPr/>
            </p:nvSpPr>
            <p:spPr>
              <a:xfrm>
                <a:off x="392904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466" name="Прямая со стрелкой 50"/>
              <p:cNvCxnSpPr/>
              <p:nvPr/>
            </p:nvCxnSpPr>
            <p:spPr>
              <a:xfrm flipH="1">
                <a:off x="407052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67" name="TextBox 51"/>
          <p:cNvSpPr/>
          <p:nvPr/>
        </p:nvSpPr>
        <p:spPr>
          <a:xfrm>
            <a:off x="5286240" y="4929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68" name="Прямая соединительная линия 54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69" name="Прямая соединительная линия 55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0" name="Прямая соединительная линия 56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1" name="Прямая соединительная линия 57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2" name="Прямая соединительная линия 58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5:37:16Z</dcterms:created>
  <dc:creator>Соколова Ольга Евгеньевна</dc:creator>
  <dc:description/>
  <dc:language>en-US</dc:language>
  <cp:lastModifiedBy>Пользователь</cp:lastModifiedBy>
  <dcterms:modified xsi:type="dcterms:W3CDTF">2012-10-07T11:51:51Z</dcterms:modified>
  <cp:revision>36</cp:revision>
  <dc:subject/>
  <dc:title>Валентные возможности атомов</dc:title>
</cp:coreProperties>
</file>